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3C8A-C739-443A-A019-26C3C6BFB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n’t really what I do for a living these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not a PL guru by any means, but I enjoy learning about new langu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used D to write research systems for at my previous job at OLM Digital R&amp;D in Toky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here because… Bartoz asked nicely, and I think D is pretty n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54CD-0573-4511-A207-99CF3AF3F6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k great.  But have you ever needed something like this?  No, I haven’t ei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40FF-1942-4128-96AC-68B393F5614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source with a only few caveats these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9445-D8E0-4D9F-9F6B-30E5475B27F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C++0x proposed type maps, but a bit more manu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C7C8-E6BE-4EAD-A52B-F1096DA0849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D56B-C7AB-4496-A370-4406B08D333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een a popular graphics library (G3D) where these were all written out by hand in a source f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EF8D-8952-4616-A110-D7F74995C5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ually the raytracer is done without CTFE.  Tom says redoing it with CTFE would make it much faster, but “that wouldn’t be fu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C620-818D-46A7-845E-AB9FE356A1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emerle uses the exact same syntax at runtime as compil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ually Nemerle macros run a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ompiler plug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first glance this seems like a great way to economize – no complex CTFE engine nee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F4AE-FCC3-42D1-ADB3-2343428B34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CTFE is actually just a kind of hyperactive constant fold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mutated neutrinos that have become new elementary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5DD1-4BEA-4067-8E0C-79A7EDA1D5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almost has nice mac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get rid of “string” everywhere in defin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rid of  “return” in defin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E868-AB8C-4618-8853-74449D3EFB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much nicer way to do it in D using “CTF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E9F8-08D6-4285-8052-FB36911E9F8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 we can write it pretty much the same way if we wi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we can use a static conditional instead of the functional pattern-matching sty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4352-54E3-4D6F-A2D3-17DCC34512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ankfully we can get rid of the grubbish .value nonse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eponymous template member trick, you can get rid of value al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e can actually do even better in 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A21C-66BE-4A17-96F3-EDF0E1FBBA6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C020-F12D-48AB-A48B-541828E7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90A1-46EF-493F-B30C-E77FD0B7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28E2-9827-49D2-81EB-5A855073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161-A201-44B8-B150-774A446B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98FB8-37F9-477A-993F-5E98E61F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012F3-FCCF-4EBB-AAE4-6A6BE85C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5E854-5261-4E89-8CE4-CE56C1EF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AB0B7-DB18-4CC1-967E-DFB0AC54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AE616-4FC5-4C90-BF51-F8AFB0A3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CDEE2-1C98-454A-BBB8-E7954815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32A56-13DE-4829-AE07-318439BF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B783-3C97-452C-B1D2-F531823D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DB4F7-E108-4F20-8C93-67A4D641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E409A-F845-4B17-9989-D72E1A68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71EF6-57B3-4EF8-8024-E57039AE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6ACD1-C41B-43AC-AF27-E275D474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75EDD-6804-4788-BACE-C91269EE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372FA-5E3A-44B4-9B64-A796879B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2679E-E40E-4A5E-A1CA-3FE724E8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17646-0531-404C-9E1D-76BCB937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913CA-9E57-4154-BB01-4B60F81B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0F31E-149B-4FB5-9B17-DB42A81B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826B-B86C-4F16-B876-FA8A7BAC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0A703-7A00-4871-AFF6-3EDA6CCA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8DD2E-69A6-4130-97C4-6F89CFA4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333F5-0CF7-49AE-A3ED-76F0A3EE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A7B96-3C61-45AF-9203-DC1514FF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6CCE7-6CEC-4E2F-966E-BE60F899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4C362-F2C6-450C-AA8A-52217BF9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ED183-8C9F-4B0F-A9A6-BA937F83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74121A-A929-483C-8227-1C0BEFCA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757027-0651-4E64-B97B-634EE6B2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F1DD6F-3CAB-4A34-959B-D62CA6CC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353-8D69-4036-A744-5D930BEB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9027EC-42D2-4538-A105-3CF4BEBC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93EB6C-1BDD-45D8-9A7D-5D01ACE2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1717E4-804E-4CFE-AECD-863C8669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4DCE50-2A4C-49C6-8438-1DBF2291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B9EFFE-090A-43A4-A80A-6F5AFB7E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EBB4F9-3CE7-406F-A455-EC46B89D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39053A-5F6B-4150-8D9D-0A2422DA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65D08B-BA84-46B0-B0BA-B90EF176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2ED416-A30E-473D-B59D-15C656BF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799D0C-B94E-4B33-A789-B40AC1F2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F0C-B2B1-4407-927F-7827E751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603E5A-6B9E-4909-BBA5-2F043AED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DFA66B-02F9-4833-87B6-0DB7A700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CD1B28-297F-434A-AD32-D51B1BAD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068AE-C2DC-4F07-A2F8-4C49644C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E18571-CD78-441A-A9CD-AB42BBBC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33F3BE-B50E-4080-BE37-9A7EA082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FF6E20-4210-472C-AC3C-ADB12C67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5EA393-F37B-444C-B816-063D550E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450E2C-0AE7-4D8F-BC2D-B8054D09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6FDAA5-6689-4076-925C-9EA00B64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2662-2212-4647-B191-4BEF040B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A2D63D-589B-49F6-83F9-F765CBED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FC9B33-13B9-40E4-A6AB-34A65633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D959CA-B787-4ADA-8ABE-EE8579A6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A03814-9EF9-41F5-98C5-C1B84865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184B23-CF2E-48CF-B588-D96F136F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0FF264-49C8-40A5-B0CD-865279A4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356F28-CC12-4D6F-B145-8C2A9B78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4A469E-53F4-458F-96A4-8C9B0EE8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B1C9EF-B7B0-475D-808E-5349180D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99A3F0-1A2B-4EAC-9154-36B42E8E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7B64-F754-41D7-B5CE-C3D52FB2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0DA5A6-16E3-40F3-8523-D17A44E9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12EFDE-AFF8-4760-B1FD-EDA38D53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CD4485-5E26-4748-B1E0-6DBF6105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D01D-33CF-4CC7-BDDE-86473D01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FE8-0D6C-4D8C-807A-96DF5B30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6062-4831-4F0C-854F-D7E82EF59780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0FDA-CB05-4323-B698-76D0E54D1A4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4669-F9E5-4CD6-AB05-234B565AF044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156D-09CF-4596-85A0-50E7F78A4AF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5534-9533-4018-97CB-7BF5F4515F1C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EF29-D4DF-43BD-BF43-796AF644AE3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47D6-03A3-4EB6-9776-FB4A209969F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8B41-C4F6-4180-8F6F-C8238705A307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E89C-D942-4A20-9F99-8925633A8934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B8D2-4208-42DD-A23E-87E18BE0DA9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DEA3-9B9B-41C3-AE84-F2EF213DEECF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C627-A403-465B-8007-BD411CE8BC2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Bill Baxte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Northwest C++ Users Grou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November 18, 2009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EC3F-4076-4B39-8BB5-7F7A8E70945C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lain functions can be evaluated at compile time!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Or runtime, of course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k, classic example.  Check. But have you ever really needed to do this in real-world code?  Yeh, me neithe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4AC0-664D-4FDF-BD9D-4556B307B4B1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4" name="Title 3" descr=""/>
          <p:cNvPicPr/>
          <p:nvPr/>
        </p:nvPicPr>
        <p:blipFill>
          <a:blip r:embed="rId1"/>
          <a:stretch/>
        </p:blipFill>
        <p:spPr>
          <a:xfrm>
            <a:off x="219240" y="66600"/>
            <a:ext cx="8474040" cy="8542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5"/>
          <p:cNvSpPr/>
          <p:nvPr/>
        </p:nvSpPr>
        <p:spPr>
          <a:xfrm>
            <a:off x="609480" y="990720"/>
            <a:ext cx="7315200" cy="228852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factorial(</a:t>
            </a: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i) {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return (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i==0)? 1 : i*factorial(i-1)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enum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X = factorial(5)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auto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y = factorial(5)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enum string url = urlencode(“a url with spaces”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olas"/>
              </a:rPr>
              <a:t>assert(url==“a%20url%20with%20spaces”)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97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DDD9-2A1D-4666-84C9-7C0ABB58A1C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8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eck template parameter value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r non-trivial condi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t compile-ti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ree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ampl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values) checking if token in gramm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values) proper linear congruential paramet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types) checking if type supports concep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1737-0D66-405B-88C1-B539C40D4A1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1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ant statically checked representation for grammar toke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uld make them be identifiers : </a:t>
            </a: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TOK_if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ut some tokens are not valid identifi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olas"/>
              </a:rPr>
              <a:t>TOK_plus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 instead of  </a:t>
            </a:r>
            <a:r>
              <a:rPr b="0" lang="en-US" sz="2400" spc="-1" strike="noStrike">
                <a:solidFill>
                  <a:srgbClr val="fefac9"/>
                </a:solidFill>
                <a:latin typeface="Consolas"/>
              </a:rPr>
              <a:t>TOK_+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lution: Statically checked template </a:t>
            </a: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Tok!"+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dea thanks to Nick Sabalausky &amp; his Goldie parse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ac9"/>
                </a:solidFill>
                <a:latin typeface="Constantia"/>
              </a:rPr>
              <a:t>http://www.dsource.org/projects/goldie</a:t>
            </a: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7EF8-DDCD-4B8F-89A0-DA393D5F036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4" name="Title 3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AF1D-D055-42D9-8BFA-E162F422FE1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380880" y="457200"/>
            <a:ext cx="8458200" cy="475740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enum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alidTokens = [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+", "-", "sin", "cos”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bool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ValidToken(string tok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oreach(t; ValidTokens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f (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t==tok)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true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false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Token(string Name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atic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assert(isValidToken(Name),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Invalid token: "~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Name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// ..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Token!(Name) Tok(string Name)() {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Token!(Name)(); }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380880" y="5200560"/>
            <a:ext cx="8458200" cy="14655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auto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O = Tok!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cos"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auto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M = Tok!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+"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auto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Y = Tok!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-"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auto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X = Tok!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*"; 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// Error: static assert "Invalid token: *”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imple kind of pseudorandom number generator based on three parameters: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Good parameters satisfy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72560" indent="-4294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and </a:t>
            </a:r>
            <a:r>
              <a:rPr b="0" i="1" lang="en-US" sz="2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are relatively prime;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72560" indent="-4294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−1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 is divisible by all prime factors of </a:t>
            </a:r>
            <a:r>
              <a:rPr b="0" i="1" lang="en-US" sz="2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; and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72560" indent="-4294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if  </a:t>
            </a:r>
            <a:r>
              <a:rPr b="0" i="1" lang="en-US" sz="2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−1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is multiple of 4, then m is a multiple of 4 too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72560" indent="-4294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Thanks to Andrei Alexandrescu for this one (used in D’s std.random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7A10-9660-4FE3-AE5C-2A39199F0D5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0" name="Title 3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txp_fig.png"/>
          <p:cNvPicPr/>
          <p:nvPr/>
        </p:nvPicPr>
        <p:blipFill>
          <a:blip r:embed="rId2"/>
          <a:stretch/>
        </p:blipFill>
        <p:spPr>
          <a:xfrm>
            <a:off x="1600200" y="2514600"/>
            <a:ext cx="5392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8E6A-3B71-4FF6-91D0-2BD9CF83E89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457200" y="152280"/>
            <a:ext cx="8305920" cy="475740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bool 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properLinConParams(</a:t>
            </a: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ulong 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m, </a:t>
            </a: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ulong 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a, </a:t>
            </a: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ulong 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c)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aSansMono-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eraSansMono-Oblique"/>
              </a:rPr>
              <a:t>// Bounds checking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(m == 0 || a == 0 || a &gt;= m || c == 0 || c &gt;= m) </a:t>
            </a: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return false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eraSansMono-Oblique"/>
              </a:rPr>
              <a:t>// c and m are relatively prim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(gcd(c, m) != 1) </a:t>
            </a: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return false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eraSansMono-Oblique"/>
              </a:rPr>
              <a:t>// a - 1 is divisible by all prime factors of 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((a - 1) % primeFactorsOnly(m)) </a:t>
            </a: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return false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eraSansMono-Oblique"/>
              </a:rPr>
              <a:t>// if a - 1 is multiple of 4, then m is a multiple of 4 too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((a - 1) % 4 == 0 &amp;&amp; m % 4) </a:t>
            </a: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return false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eraSansMono-Oblique"/>
              </a:rPr>
              <a:t>// Passed all test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return true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aSansMono-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880" y="5105520"/>
            <a:ext cx="8534520" cy="14655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eraSansMono-Oblique"/>
              </a:rPr>
              <a:t>// Example bad inpu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static assert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(!properLinConParams(</a:t>
            </a:r>
            <a:r>
              <a:rPr b="0" lang="en-US" sz="1800" spc="-1" strike="noStrike">
                <a:solidFill>
                  <a:srgbClr val="000000"/>
                </a:solidFill>
                <a:latin typeface="BeraSansMono-Roman"/>
              </a:rPr>
              <a:t>1UL&lt;&lt;32, 210, 123)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eraSansMono-Oblique"/>
              </a:rPr>
              <a:t>// Example from Numerical Recipes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static assert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(properLinConParams(</a:t>
            </a:r>
            <a:r>
              <a:rPr b="0" lang="en-US" sz="1800" spc="-1" strike="noStrike">
                <a:solidFill>
                  <a:srgbClr val="000000"/>
                </a:solidFill>
                <a:latin typeface="BeraSansMono-Roman"/>
              </a:rPr>
              <a:t>1UL&lt;&lt;32, 1664525, 1013904223)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aSansMono-Roman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1523520"/>
            <a:ext cx="8229600" cy="342900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LinearCongruentialEngine(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UIntT, UIntT a, UIntT c, UIntT m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static assert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(properLinConParams(m, a, c)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    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a31515"/>
                </a:solidFill>
                <a:latin typeface="Consolas"/>
              </a:rPr>
              <a:t>"Incorrect instantiation of  </a:t>
            </a:r>
            <a:r>
              <a:rPr b="0" lang="en-US" sz="2400" spc="-1" strike="noStrike">
                <a:solidFill>
                  <a:srgbClr val="a31515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a31515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a31515"/>
                </a:solidFill>
                <a:latin typeface="Consolas"/>
              </a:rPr>
              <a:t>LinearCongruentialEngine"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1F08-D5F8-4C75-A8CB-4629A31A0C4B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TextBox 5"/>
          <p:cNvSpPr/>
          <p:nvPr/>
        </p:nvSpPr>
        <p:spPr>
          <a:xfrm>
            <a:off x="567360" y="762120"/>
            <a:ext cx="27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Usage exampl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380880" y="5181480"/>
            <a:ext cx="779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reating one of these with bad parameters is now impossible, and results in a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compile-time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erro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 introspection on type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ke sure they support a particular interface concept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.g. does this type have </a:t>
            </a:r>
            <a:r>
              <a:rPr b="0" lang="en-US" sz="2400" spc="-1" strike="noStrike">
                <a:solidFill>
                  <a:srgbClr val="fefac9"/>
                </a:solidFill>
                <a:latin typeface="Consolas"/>
              </a:rPr>
              <a:t>.length 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nd allow indexing?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laborate Concept support planned for C++0X but collapsed under own weight at the end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 offers some similar capabilit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D656-CCA1-4317-97AE-BB5DF6ADD6F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3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ay we want to create a Vector.  It should accept a scalar type which is closed under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ddi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ubtrac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Multiplica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Divis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325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5100-4299-4E5F-9BA7-75C8B32C56E0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6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>
            <a:off x="609480" y="4114800"/>
            <a:ext cx="8153640" cy="173988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(S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atic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assert(isScalarType!(S)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.stringof ~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 is not a proper scalar type"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//..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413280" y="5867280"/>
            <a:ext cx="48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ow, to define </a:t>
            </a: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isScalarType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ystems programming languag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velopment led by Walter Brigh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piles to native cod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arbage collect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nder continuous development for 10 yea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++ without the mistakes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pen sour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me very nice metaprogramming featur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3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64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D1F3-8FBF-49EE-8810-B10AB073E930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9144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ust enumerate the allowable typ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C++ a bunch of specializations, or some funky typelist thin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esn’t extend to user typ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ll out the ducks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18B3-6568-41B9-A7F4-4C7CF0C92022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1" name="Title 3" descr=""/>
          <p:cNvPicPr/>
          <p:nvPr/>
        </p:nvPicPr>
        <p:blipFill>
          <a:blip r:embed="rId1"/>
          <a:stretch/>
        </p:blipFill>
        <p:spPr>
          <a:xfrm>
            <a:off x="219240" y="66600"/>
            <a:ext cx="8474040" cy="8542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4"/>
          <p:cNvSpPr/>
          <p:nvPr/>
        </p:nvSpPr>
        <p:spPr>
          <a:xfrm>
            <a:off x="838080" y="1371600"/>
            <a:ext cx="3505320" cy="311148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template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ScalarType(S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enum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ScalarType =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(S ==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float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||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(S ==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) ||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(S ==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al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) ||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(S ==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) ||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(S ==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long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5029200" y="2133720"/>
            <a:ext cx="3657600" cy="201420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!(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float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a; </a:t>
            </a:r>
            <a:r>
              <a:rPr b="0" lang="en-US" sz="1800" spc="-1" strike="noStrike">
                <a:solidFill>
                  <a:srgbClr val="00b050"/>
                </a:solidFill>
                <a:latin typeface="Consolas"/>
              </a:rPr>
              <a:t>// ok!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!(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ring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) b; </a:t>
            </a:r>
            <a:r>
              <a:rPr b="0" lang="en-US" sz="1800" spc="-1" strike="noStrike">
                <a:solidFill>
                  <a:srgbClr val="00b050"/>
                </a:solidFill>
                <a:latin typeface="Consolas"/>
              </a:rPr>
              <a:t>/* nope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nsolas"/>
              </a:rPr>
              <a:t>Error: static assert  "string is not a proper scalar type"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nsolas"/>
              </a:rPr>
              <a:t>*/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44197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oking much more ducky now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e can clean it up a bit more with a small trick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E35B-2C00-495F-907A-5B91B20C3083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6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4"/>
          <p:cNvSpPr/>
          <p:nvPr/>
        </p:nvSpPr>
        <p:spPr>
          <a:xfrm>
            <a:off x="762120" y="1981080"/>
            <a:ext cx="6172200" cy="228852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template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ScalarType(S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enum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ScalarType =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(typeof(S.init + S.init) == S) &amp;&amp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(typeof(S.init * S.init) == S) &amp;&amp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(typeof(S.init - S.init) == S) &amp;&amp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(typeof(S.init / S.init) == S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052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{ …code }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a delegate literal in 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is(typeof(…))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turns false if the arg is not vali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in drawback to this kind of static concept checking is lack of specific  error messages.  (E.g. “Not a scalar because it doesn’t support addition”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e also: __traits(compiles,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exp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E54B-9E29-4979-B1E0-5ACDC96EA260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0" name="Title 3" descr=""/>
          <p:cNvPicPr/>
          <p:nvPr/>
        </p:nvPicPr>
        <p:blipFill>
          <a:blip r:embed="rId1"/>
          <a:stretch/>
        </p:blipFill>
        <p:spPr>
          <a:xfrm>
            <a:off x="219240" y="66600"/>
            <a:ext cx="8474040" cy="8542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4"/>
          <p:cNvSpPr/>
          <p:nvPr/>
        </p:nvSpPr>
        <p:spPr>
          <a:xfrm>
            <a:off x="990720" y="1905120"/>
            <a:ext cx="6172200" cy="28371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template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ScalarType(S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enum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ScalarType = is(typeof(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 v,r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 = v+v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 = v-v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 = v*v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 = v/v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)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68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 allows this kind of “constraint syntax” to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n overload templates on different </a:t>
            </a: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if(…)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nstrai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blem is still error messag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fefac9"/>
                </a:solidFill>
                <a:latin typeface="Consolas"/>
              </a:rPr>
              <a:t>Error: Template instance Vector!(string) does not match template declaration Vector(S) if (isScalarType!(S))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” </a:t>
            </a:r>
            <a:br>
              <a:rPr sz="2400"/>
            </a:b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--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well? why not?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4EDD-F2D9-4A80-89E7-D566184B8916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4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"/>
          <p:cNvSpPr/>
          <p:nvPr/>
        </p:nvSpPr>
        <p:spPr>
          <a:xfrm>
            <a:off x="838080" y="2057400"/>
            <a:ext cx="5943600" cy="91692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(S)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(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ScalarType!(S)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//..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87E7-085F-4670-91DA-8B0F4C52DC1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8" name="Title 3" descr=""/>
          <p:cNvPicPr/>
          <p:nvPr/>
        </p:nvPicPr>
        <p:blipFill>
          <a:blip r:embed="rId2"/>
          <a:stretch/>
        </p:blipFill>
        <p:spPr>
          <a:xfrm>
            <a:off x="219240" y="139680"/>
            <a:ext cx="8474040" cy="86040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6"/>
          <p:cNvSpPr/>
          <p:nvPr/>
        </p:nvSpPr>
        <p:spPr>
          <a:xfrm>
            <a:off x="228600" y="1325520"/>
            <a:ext cx="8686800" cy="544788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template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checkScalarType(S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static if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(!is(typeof(S.init + S.init) == S)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pragma(msg, S.stringof ~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Error: is not closed under addition"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static if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(!is(typeof(S.init - S.init) == S)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pragma(msg, S.stringof ~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Error: is not closed under subtraction"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static if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(!is(typeof(S.init * S.init) == S)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pragma(msg, S.stringof ~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 is not closed under multiplication"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static if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(!is(typeof(S.init / S.init) == S)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pragma(msg, S.stringof ~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 is not closed under division"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enum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isScalarType = is(typeof(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S v,r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r = v+v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r = v-v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r = v*v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r = v/v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)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r… except Go doesn’t have operator overloading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 generic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89C3-4BA7-4A11-9293-FC064257C0C3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2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4"/>
          <p:cNvSpPr/>
          <p:nvPr/>
        </p:nvSpPr>
        <p:spPr>
          <a:xfrm>
            <a:off x="1752480" y="1600200"/>
            <a:ext cx="4572000" cy="311148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  <a:ea typeface="Times New Roman"/>
              </a:rPr>
              <a:t>interface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ScalarType&lt;T&gt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T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  <a:ea typeface="Times New Roman"/>
              </a:rPr>
              <a:t>operator+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(T,T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T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  <a:ea typeface="Times New Roman"/>
              </a:rPr>
              <a:t>operator-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(T,T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T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  <a:ea typeface="Times New Roman"/>
              </a:rPr>
              <a:t>operator*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(T,T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T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  <a:ea typeface="Times New Roman"/>
              </a:rPr>
              <a:t>operator/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(T,T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  <a:ea typeface="Times New Roman"/>
              </a:rPr>
              <a:t>struc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Vector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ScalarType x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++1X concepts  -- not going in C++0x, but probably will some da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re compiler will do the line-by-line checking of the concept against input, and give decent error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5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7F53-7C0D-4C74-93C4-68647E704BAA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6" name="Title 3" descr=""/>
          <p:cNvPicPr/>
          <p:nvPr/>
        </p:nvPicPr>
        <p:blipFill>
          <a:blip r:embed="rId1"/>
          <a:stretch/>
        </p:blipFill>
        <p:spPr>
          <a:xfrm>
            <a:off x="219240" y="66600"/>
            <a:ext cx="8474040" cy="8542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4"/>
          <p:cNvSpPr/>
          <p:nvPr/>
        </p:nvSpPr>
        <p:spPr>
          <a:xfrm>
            <a:off x="2971800" y="1407960"/>
            <a:ext cx="4572000" cy="393444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oncept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ScalarType&lt;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typename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&gt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ar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&lt;S&gt; v,r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 = v+v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 = v-v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 = v*v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 = v/v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template&lt;typename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&gt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where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calarType&lt;S&gt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8380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rroring if type doesn’t support concept is often not as useful as working around the missing functionalit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ample – just omit Vector ops if underlying scalar op not define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9" name="Title 2" descr=""/>
          <p:cNvPicPr/>
          <p:nvPr/>
        </p:nvPicPr>
        <p:blipFill>
          <a:blip r:embed="rId1"/>
          <a:stretch/>
        </p:blipFill>
        <p:spPr>
          <a:xfrm>
            <a:off x="219240" y="66600"/>
            <a:ext cx="8632800" cy="85428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5E1E-FFF1-4038-B1B9-0ECE25CE4BAC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380880" y="2590920"/>
            <a:ext cx="7467840" cy="42087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(S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[3] values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atic if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(is(typeof(S.init + S.init)==S)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 opAdd(ref Vector o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 ret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oreach(i; 0..3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et.values[i] = values[i] + o.values[i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et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715000" y="5105520"/>
            <a:ext cx="2819520" cy="1191240"/>
          </a:xfrm>
          <a:prstGeom prst="rect">
            <a:avLst/>
          </a:prstGeom>
          <a:solidFill>
            <a:srgbClr val="dbe1d3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!(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float)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a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!(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har)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b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a+a;  // ok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b+b;  // error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amples: loop unrolling, vector swizz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ey enabling feature:  string </a:t>
            </a: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mixi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mple example from documentatio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w the one-two punch: The strings themselves can come from CTF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4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EAB4-3EF3-4D0F-BECC-0E46DF20FC3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5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"/>
          <p:cNvSpPr/>
          <p:nvPr/>
        </p:nvSpPr>
        <p:spPr>
          <a:xfrm>
            <a:off x="800280" y="2975400"/>
            <a:ext cx="5362560" cy="100872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string </a:t>
            </a: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s = </a:t>
            </a:r>
            <a:r>
              <a:rPr b="0" lang="en-US" sz="2000" spc="-1" strike="noStrike">
                <a:solidFill>
                  <a:srgbClr val="a31515"/>
                </a:solidFill>
                <a:latin typeface="Consolas"/>
              </a:rPr>
              <a:t>"int y;"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mixin(s); 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ok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001"/>
                </a:solidFill>
                <a:latin typeface="Consolas"/>
              </a:rPr>
              <a:t>y = 4;     </a:t>
            </a:r>
            <a:r>
              <a:rPr b="0" lang="es-ES" sz="2000" spc="-1" strike="noStrike">
                <a:solidFill>
                  <a:srgbClr val="008000"/>
                </a:solidFill>
                <a:latin typeface="Consolas"/>
              </a:rPr>
              <a:t>// ok, mixin declared 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990720" y="4800600"/>
            <a:ext cx="4572000" cy="173988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declareInt(string name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int " ~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name ~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;"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mixin(declareInt(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y"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))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y = 4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ndy in a  </a:t>
            </a:r>
            <a:r>
              <a:rPr b="0" lang="en-US" sz="2600" spc="-1" strike="noStrike">
                <a:solidFill>
                  <a:srgbClr val="fefac9"/>
                </a:solidFill>
                <a:latin typeface="Consolas"/>
              </a:rPr>
              <a:t>Vector(T, int N)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yp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9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1BB5-7853-4E5B-8E33-22D9DCC2B9C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0" name="Title 3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533520" y="1828800"/>
            <a:ext cx="8305560" cy="228852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unroll(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N,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=0)(string expr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atic if(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&lt;N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subs_expr = ctReplace(expr,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%s",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toStringNow!i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pt-BR" sz="1800" spc="-1" strike="noStrike">
                <a:solidFill>
                  <a:srgbClr val="0000ff"/>
                </a:solidFill>
                <a:latin typeface="Consolas"/>
              </a:rPr>
              <a:t>return </a:t>
            </a:r>
            <a:r>
              <a:rPr b="0" lang="pt-BR" sz="1800" spc="-1" strike="noStrike">
                <a:solidFill>
                  <a:srgbClr val="010001"/>
                </a:solidFill>
                <a:latin typeface="Consolas"/>
              </a:rPr>
              <a:t>subs_expr ~ </a:t>
            </a:r>
            <a:r>
              <a:rPr b="0" lang="pt-BR" sz="1800" spc="-1" strike="noStrike">
                <a:solidFill>
                  <a:srgbClr val="a31515"/>
                </a:solidFill>
                <a:latin typeface="Consolas"/>
              </a:rPr>
              <a:t>"\n" ~ </a:t>
            </a:r>
            <a:r>
              <a:rPr b="0" lang="pt-BR" sz="1800" spc="-1" strike="noStrike">
                <a:solidFill>
                  <a:srgbClr val="010001"/>
                </a:solidFill>
                <a:latin typeface="Consolas"/>
              </a:rPr>
              <a:t>unroll!(N,i+1)(expr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"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533520" y="4267080"/>
            <a:ext cx="7086600" cy="64260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enum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expr =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values_[%s] += _rhs[%s];"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ragma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(msg, unroll!(3)(expr)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533520" y="5400720"/>
            <a:ext cx="45720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Lucida Console"/>
              </a:rPr>
              <a:t>values_[0] += _rhs[0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Lucida Console"/>
              </a:rPr>
              <a:t>values_[1] += _rhs[1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Lucida Console"/>
              </a:rPr>
              <a:t>values_[2] += _rhs[2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381600" y="388620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Example us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379080" y="4952880"/>
            <a:ext cx="27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Compile-time output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Metaprogrammin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the writing of computer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programs that write or manipulate other programs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or themselves) as their data, or that do part of the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work at compile time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at would otherwise be done at runtime.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(Wikipedia definintion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67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D934-F2E7-472D-A84B-81F82A6F1976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ypical us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7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B12B-4B05-4F6D-A70C-059C53B0CDE2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533520" y="914400"/>
            <a:ext cx="8153280" cy="338580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(T,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N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T[N] values_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/// this += rh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ef Vector opAddAssign(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/*const*/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ef Vector rhs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ons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expr =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values_[%s] += rhs.values_[%s];"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        </a:t>
            </a:r>
            <a:r>
              <a:rPr b="1" lang="en-US" sz="1800" spc="-1" strike="noStrike">
                <a:solidFill>
                  <a:srgbClr val="010001"/>
                </a:solidFill>
                <a:latin typeface="Consolas"/>
              </a:rPr>
              <a:t>mixin( unroll!(N)(expr) 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thi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dern GPU shading languages support special “swizzle”  syntax for shuffling values in a vect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ampl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0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F25F-C57D-4974-9F33-5AACABA1BBEC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81" name="Title 3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4"/>
          <p:cNvSpPr/>
          <p:nvPr/>
        </p:nvSpPr>
        <p:spPr>
          <a:xfrm>
            <a:off x="1219320" y="2895480"/>
            <a:ext cx="4572000" cy="91692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loat4 A(1,2,3,4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loat4 B = A.xxwz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assert( B == float4(1,1,4,3) 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1219320" y="4038480"/>
            <a:ext cx="4572000" cy="64260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loat2 C = A.yz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assert( C == float2(2,3) 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85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B85D-7068-4B81-B8AC-E752B723BD0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838080" y="76320"/>
            <a:ext cx="6019920" cy="256284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/** </a:t>
            </a:r>
            <a:r>
              <a:rPr b="0" lang="en-US" sz="1800" spc="-1" strike="noStrike">
                <a:solidFill>
                  <a:srgbClr val="008000"/>
                </a:solidFill>
                <a:latin typeface="Constantia"/>
              </a:rPr>
              <a:t>Generate a swizzling function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tantia"/>
              </a:rPr>
              <a:t>         </a:t>
            </a:r>
            <a:r>
              <a:rPr b="0" lang="en-US" sz="1800" spc="-1" strike="noStrike">
                <a:solidFill>
                  <a:srgbClr val="008000"/>
                </a:solidFill>
                <a:latin typeface="Constantia"/>
              </a:rPr>
              <a:t>Example: </a:t>
            </a:r>
            <a:r>
              <a:rPr b="1" lang="en-US" sz="1800" spc="-1" strike="noStrike">
                <a:solidFill>
                  <a:srgbClr val="008000"/>
                </a:solidFill>
                <a:latin typeface="Consolas"/>
              </a:rPr>
              <a:t>_gen_swizzle("xyzzy")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Constantia"/>
              </a:rPr>
              <a:t>returns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"""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VectorT!(T,6) xyzzy() const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return VectorT!(T,6)(x,y,z,z,y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""" 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*/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838080" y="3048120"/>
            <a:ext cx="7239240" cy="366012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_gen_swizzle(string swiz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args =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"~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wiz[0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oreach(c; swiz[1..$]) args ~=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, " ~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c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code =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ctFormat(q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T!(T,%s) %s()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ons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T!(T,%s)(%s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,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wiz.length, swiz, swiz.length, args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code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ut we need to generate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all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wizzles up to a given length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0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D974-1794-4F64-B392-5B08E5E0B56B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990720" y="442800"/>
            <a:ext cx="7924680" cy="612900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_gen_all_swizzles(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len,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rcdig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f (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len &lt;= 0)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"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elem =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xyzw"[0..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rcdig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code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oreach (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genlen; 2..len+1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combos = 1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oreach(a; 0..genlen) { combos *= srcdig; 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oreach(i; 0..combos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swiz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wizcode = i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oreach(j; 0..genlen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wiz ~= elem[swizcode % srcdig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wizcode /= srcdig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code ~= </a:t>
            </a:r>
            <a:r>
              <a:rPr b="1" lang="en-US" sz="1800" spc="-1" strike="noStrike">
                <a:solidFill>
                  <a:srgbClr val="010001"/>
                </a:solidFill>
                <a:latin typeface="Consolas"/>
              </a:rPr>
              <a:t>_gen_swizzle(swiz)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code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93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E43D-8874-4091-82BA-A5F2D503881F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990720" y="0"/>
            <a:ext cx="6858000" cy="691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VectorT!(T,2) xx(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return VectorT!(T,2)(x, x);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VectorT!(T,2) yx(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return VectorT!(T,2)(y, x);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VectorT!(T,2) xy(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return VectorT!(T,2)(x, y);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VectorT!(T,2) yy(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return VectorT!(T,2)(y, y);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VectorT!(T,3) xxx(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return VectorT!(T,3)(x, x, x);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VectorT!(T,3) yxx(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return VectorT!(T,3)(y, x, x);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most no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ich is to say, y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TFE limitations:  no structs/classes, no C func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ompiler bugs: massive memory leak in CTF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wever, these have been demonstrated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Compile-time raytracer 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(Tomasz Stachowiak)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Wrapper generation (PyD, Kirk McDonald)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Compile-time regular expression parsing (meta.regexp, Eric Anderton).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Compile-time parsing DSL parsing </a:t>
            </a:r>
            <a:br>
              <a:rPr sz="2800"/>
            </a:b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(???, BCS?)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397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74CF-89D0-40F7-BA2F-78F2D9031779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8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400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BBA7-530A-4B7A-9785-666CF0CC275D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228600" y="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5"/>
          <p:cNvSpPr/>
          <p:nvPr/>
        </p:nvSpPr>
        <p:spPr>
          <a:xfrm>
            <a:off x="228600" y="64882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otal rendering/compilation time: 26148 seconds (on a 1.7GHz laptop)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405" name="Title 3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406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BEF0-3914-4C62-8DFD-D73CA923F470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TFE calc vs Template calc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emplates can do calculations on </a:t>
            </a:r>
            <a:r>
              <a:rPr b="1" lang="en-US" sz="2400" spc="-1" strike="noStrike">
                <a:solidFill>
                  <a:srgbClr val="fefac9"/>
                </a:solidFill>
                <a:latin typeface="Constantia"/>
              </a:rPr>
              <a:t>Types 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or </a:t>
            </a:r>
            <a:r>
              <a:rPr b="1" lang="en-US" sz="2400" spc="-1" strike="noStrike">
                <a:solidFill>
                  <a:srgbClr val="fefac9"/>
                </a:solidFill>
                <a:latin typeface="Constantia"/>
              </a:rPr>
              <a:t>Valu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TFE can only do </a:t>
            </a:r>
            <a:r>
              <a:rPr b="1" lang="en-US" sz="2400" spc="-1" strike="noStrike">
                <a:solidFill>
                  <a:srgbClr val="fefac9"/>
                </a:solidFill>
                <a:latin typeface="Constantia"/>
              </a:rPr>
              <a:t>Valu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calculation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emplate </a:t>
            </a:r>
            <a:r>
              <a:rPr b="0" lang="en-US" sz="2400" spc="-1" strike="noStrike">
                <a:solidFill>
                  <a:srgbClr val="fefac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CTFE is OK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But not CTFE </a:t>
            </a:r>
            <a:r>
              <a:rPr b="0" lang="en-US" sz="2400" spc="-1" strike="noStrike">
                <a:solidFill>
                  <a:srgbClr val="fefac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Templat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TFE supports richer syntax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lso Templates instantiate symbols and cause bloat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nclus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If doing  value calcs,  always prefer CTFE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ACA9-497F-4AFD-9B8F-87C99A0F395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9" name="Title 3" descr=""/>
          <p:cNvPicPr/>
          <p:nvPr/>
        </p:nvPicPr>
        <p:blipFill>
          <a:blip r:embed="rId1"/>
          <a:stretch/>
        </p:blipFill>
        <p:spPr>
          <a:xfrm>
            <a:off x="219240" y="139680"/>
            <a:ext cx="847404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6840" y="685800"/>
            <a:ext cx="3048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merle macr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907E-1E95-46C9-845F-44A50651FD9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2" name="Title 3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86040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4"/>
          <p:cNvSpPr/>
          <p:nvPr/>
        </p:nvSpPr>
        <p:spPr>
          <a:xfrm>
            <a:off x="609480" y="1143000"/>
            <a:ext cx="5486400" cy="1554120"/>
          </a:xfrm>
          <a:prstGeom prst="rect">
            <a:avLst/>
          </a:prstGeom>
          <a:solidFill>
            <a:srgbClr val="dfe5ca"/>
          </a:solidFill>
          <a:ln w="936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macro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m () 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Nemerle.IO.printf (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compile-time\n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&lt;[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Nemerle.IO.printf (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run-time\n") ]&gt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m (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609480" y="4495680"/>
            <a:ext cx="5410440" cy="173988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m(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ragma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(msg,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compile-time")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q{writefln(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run-time")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;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mixin(m()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5" name="Content Placeholder 1"/>
          <p:cNvSpPr/>
          <p:nvPr/>
        </p:nvSpPr>
        <p:spPr>
          <a:xfrm>
            <a:off x="609480" y="3962520"/>
            <a:ext cx="3048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 “macro”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pile time consta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atic check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de specialization using introspe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de gene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70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BC4F-FB71-464E-80F8-92F618668B9C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TFE is constant folding on steroids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75640" indent="-2455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“</a:t>
            </a: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Simply taking constant folding to its logical conclusions” </a:t>
            </a:r>
            <a:br>
              <a:rPr sz="2200"/>
            </a:b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– Don Clugston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nst int x = 2+4;  </a:t>
            </a:r>
            <a:r>
              <a:rPr b="0" i="1" lang="en-US" sz="2400" spc="-1" strike="noStrike">
                <a:solidFill>
                  <a:srgbClr val="fadbb5"/>
                </a:solidFill>
                <a:latin typeface="Constantia"/>
              </a:rPr>
              <a:t>// many compilers will fold thi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t add(int a, int b){return a+b;}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nst int x = add(2,4);  </a:t>
            </a:r>
            <a:r>
              <a:rPr b="0" i="1" lang="en-US" sz="2400" spc="-1" strike="noStrike">
                <a:solidFill>
                  <a:srgbClr val="fadbb5"/>
                </a:solidFill>
                <a:latin typeface="Constantia"/>
              </a:rPr>
              <a:t>// some may inline/fold thi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nst int x = factorial(5); </a:t>
            </a:r>
            <a:r>
              <a:rPr b="0" i="1" lang="en-US" sz="2400" spc="-1" strike="noStrike">
                <a:solidFill>
                  <a:srgbClr val="fadbb5"/>
                </a:solidFill>
                <a:latin typeface="Constantia"/>
              </a:rPr>
              <a:t>// does any but DMD do this?            </a:t>
            </a:r>
            <a:br>
              <a:rPr sz="2400"/>
            </a:br>
            <a:r>
              <a:rPr b="0" i="1" lang="en-US" sz="2400" spc="-1" strike="noStrike">
                <a:solidFill>
                  <a:srgbClr val="fadbb5"/>
                </a:solidFill>
                <a:latin typeface="Constantia"/>
              </a:rPr>
              <a:t>	</a:t>
            </a:r>
            <a:r>
              <a:rPr b="0" i="1" lang="en-US" sz="2400" spc="-1" strike="noStrike">
                <a:solidFill>
                  <a:srgbClr val="fadbb5"/>
                </a:solidFill>
                <a:latin typeface="Constantia"/>
              </a:rPr>
              <a:t>	</a:t>
            </a:r>
            <a:r>
              <a:rPr b="0" i="1" lang="en-US" sz="2400" spc="-1" strike="noStrike">
                <a:solidFill>
                  <a:srgbClr val="fadbb5"/>
                </a:solidFill>
                <a:latin typeface="Constantia"/>
              </a:rPr>
              <a:t>	</a:t>
            </a:r>
            <a:r>
              <a:rPr b="0" i="1" lang="en-US" sz="2400" spc="-1" strike="noStrike">
                <a:solidFill>
                  <a:srgbClr val="fadbb5"/>
                </a:solidFill>
                <a:latin typeface="Constantia"/>
              </a:rPr>
              <a:t>// maybe some functional languages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 general, why not evaluate as much as you can up front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89A1-C747-4EFE-94B0-9919175C8D5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8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420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CF0A-A577-44D8-A80A-4CCF26E7945B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1" name="Title 3" descr=""/>
          <p:cNvPicPr/>
          <p:nvPr/>
        </p:nvPicPr>
        <p:blipFill>
          <a:blip r:embed="rId2"/>
          <a:stretch/>
        </p:blipFill>
        <p:spPr>
          <a:xfrm>
            <a:off x="66600" y="189000"/>
            <a:ext cx="671760" cy="374976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762120" y="0"/>
            <a:ext cx="8229600" cy="277092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macro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For (init, cond, change, body)  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&lt;[$init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def loop () :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(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$cond) { $body; $change; loop() }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else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(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loop (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]&gt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Consolas"/>
              </a:rPr>
              <a:t>For(</a:t>
            </a:r>
            <a:r>
              <a:rPr b="0" lang="nn-NO" sz="1600" spc="-1" strike="noStrike">
                <a:solidFill>
                  <a:srgbClr val="0000ff"/>
                </a:solidFill>
                <a:latin typeface="Consolas"/>
              </a:rPr>
              <a:t>mutable </a:t>
            </a: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i = 0, i &lt; 10, i++, printf (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"%d", </a:t>
            </a: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i)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762120" y="2971800"/>
            <a:ext cx="8229600" cy="374436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string For(string init, string cond, string change, string bod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return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ctFormat(q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%s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loop() 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(%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s) { %s; %s; loop(); }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loop(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, init, cond, bod, change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main() 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mixin(For(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"int i = 0"</a:t>
            </a:r>
            <a:r>
              <a:rPr b="0" lang="nn-NO" sz="1600" spc="-1" strike="noStrike">
                <a:solidFill>
                  <a:srgbClr val="000000"/>
                </a:solidFill>
                <a:latin typeface="Consolas"/>
              </a:rPr>
              <a:t>,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 "i &lt; 10"</a:t>
            </a:r>
            <a:r>
              <a:rPr b="0" lang="nn-NO" sz="1600" spc="-1" strike="noStrike">
                <a:solidFill>
                  <a:srgbClr val="000000"/>
                </a:solidFill>
                <a:latin typeface="Consolas"/>
              </a:rPr>
              <a:t>,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 "i++"</a:t>
            </a:r>
            <a:r>
              <a:rPr b="0" lang="nn-NO" sz="1600" spc="-1" strike="noStrike">
                <a:solidFill>
                  <a:srgbClr val="000000"/>
                </a:solidFill>
                <a:latin typeface="Consolas"/>
              </a:rPr>
              <a:t>,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              </a:t>
            </a: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q{writefln(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"%d"</a:t>
            </a:r>
            <a:r>
              <a:rPr b="0" lang="nn-NO" sz="1600" spc="-1" strike="noStrike">
                <a:solidFill>
                  <a:srgbClr val="000000"/>
                </a:solidFill>
                <a:latin typeface="Consolas"/>
              </a:rPr>
              <a:t>,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 </a:t>
            </a: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i)})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6798240" y="15228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emerl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8238600" y="3200400"/>
            <a:ext cx="53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427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C828-BE11-4F91-81FE-82C972748DD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762120" y="0"/>
            <a:ext cx="8229600" cy="277092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macro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For (init, cond, change, body)  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&lt;[$init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def loop () :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(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$cond) { $body; $change; loop() }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else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(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loop (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]&gt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Consolas"/>
              </a:rPr>
              <a:t>For(</a:t>
            </a:r>
            <a:r>
              <a:rPr b="0" lang="nn-NO" sz="1600" spc="-1" strike="noStrike">
                <a:solidFill>
                  <a:srgbClr val="0000ff"/>
                </a:solidFill>
                <a:latin typeface="Consolas"/>
              </a:rPr>
              <a:t>mutable </a:t>
            </a: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i = 0, i &lt; 10, i++, printf (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"%d", </a:t>
            </a: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i)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762120" y="2971800"/>
            <a:ext cx="8229600" cy="374436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string For(string init, string cond, string change, string bod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return mixi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(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ctInterpolate(q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1" lang="en-US" sz="1600" spc="-1" strike="noStrike">
                <a:solidFill>
                  <a:srgbClr val="010001"/>
                </a:solidFill>
                <a:latin typeface="Consolas"/>
              </a:rPr>
              <a:t>$init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loop() 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$cond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) { </a:t>
            </a:r>
            <a:r>
              <a:rPr b="1" lang="en-US" sz="1600" spc="-1" strike="noStrike">
                <a:solidFill>
                  <a:srgbClr val="010001"/>
                </a:solidFill>
                <a:latin typeface="Consolas"/>
              </a:rPr>
              <a:t>$bod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; </a:t>
            </a:r>
            <a:r>
              <a:rPr b="1" lang="en-US" sz="1600" spc="-1" strike="noStrike">
                <a:solidFill>
                  <a:srgbClr val="010001"/>
                </a:solidFill>
                <a:latin typeface="Consolas"/>
              </a:rPr>
              <a:t>$change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; loop(); }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loop(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main() 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mixin(For(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"int i = 0"</a:t>
            </a:r>
            <a:r>
              <a:rPr b="0" lang="nn-NO" sz="1600" spc="-1" strike="noStrike">
                <a:solidFill>
                  <a:srgbClr val="000000"/>
                </a:solidFill>
                <a:latin typeface="Consolas"/>
              </a:rPr>
              <a:t>,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 "i &lt; 10"</a:t>
            </a:r>
            <a:r>
              <a:rPr b="0" lang="nn-NO" sz="1600" spc="-1" strike="noStrike">
                <a:solidFill>
                  <a:srgbClr val="000000"/>
                </a:solidFill>
                <a:latin typeface="Consolas"/>
              </a:rPr>
              <a:t>,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 "i++"</a:t>
            </a:r>
            <a:r>
              <a:rPr b="0" lang="nn-NO" sz="1600" spc="-1" strike="noStrike">
                <a:solidFill>
                  <a:srgbClr val="000000"/>
                </a:solidFill>
                <a:latin typeface="Consolas"/>
              </a:rPr>
              <a:t>,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              </a:t>
            </a: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q{writefln(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"%d"</a:t>
            </a:r>
            <a:r>
              <a:rPr b="0" lang="nn-NO" sz="1600" spc="-1" strike="noStrike">
                <a:solidFill>
                  <a:srgbClr val="000000"/>
                </a:solidFill>
                <a:latin typeface="Consolas"/>
              </a:rPr>
              <a:t>,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 </a:t>
            </a: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i)})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1" name="Title 3" descr=""/>
          <p:cNvPicPr/>
          <p:nvPr/>
        </p:nvPicPr>
        <p:blipFill>
          <a:blip r:embed="rId2"/>
          <a:stretch/>
        </p:blipFill>
        <p:spPr>
          <a:xfrm>
            <a:off x="66600" y="189000"/>
            <a:ext cx="671760" cy="374976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7"/>
          <p:cNvSpPr/>
          <p:nvPr/>
        </p:nvSpPr>
        <p:spPr>
          <a:xfrm>
            <a:off x="6798240" y="15228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emerl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8238600" y="3200400"/>
            <a:ext cx="53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ick Sabalausky – encode/decode, tokens examp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drei Alexandrescu – std.random examp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m Stachowiak – swizzle example and ctra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alter Bright – for 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7B22-AEEF-41CD-A27B-638AC7DE5C4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6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is, Stroustrup,   "Specifying C++ Concepts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nnual Symposium on Principles of Programming Languages, 2006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ta.regexp: http://www.dsource.org/met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trace raytracer: http://h3.team0xf.com/ctrace/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d.random:</a:t>
            </a:r>
            <a:br>
              <a:rPr sz="2600"/>
            </a:b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http://www.digitalmars.com/d/2.0/phobos/std_random.htm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n excerpt from Andrei’s upcomming TDPL book: http://erdani.com/tdpl/excerpt.pdf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989F-5468-4620-87DD-589F63E87A3A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9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mplat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static asser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static if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pile time function evaluation (CTFE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pragma(msg, …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.stringof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is(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ring </a:t>
            </a: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mixi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__trai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Title 2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699400" cy="1231920"/>
          </a:xfrm>
          <a:prstGeom prst="rect">
            <a:avLst/>
          </a:prstGeom>
          <a:ln w="0">
            <a:noFill/>
          </a:ln>
        </p:spPr>
      </p:pic>
      <p:sp>
        <p:nvSpPr>
          <p:cNvPr id="273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47E6-7929-4C39-AE6B-6F977AA98AD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ch like C++ templat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++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template&lt;class T&gt; T add(T a, T b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{ return a+b; }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template T add(T)(T a, T b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{ return a+b; }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T add(T)(T a, T b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{ return a+b; }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6007320" y="289548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++ call syntax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add&lt;int&gt;(2,3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6077160" y="434340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 Call syntax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add!(int)(2,3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add!int(2,3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add(2,3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D3CB-BA1C-4AA6-B410-EEDBABD20B5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837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assic C++ functional-style defini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Title 2" descr=""/>
          <p:cNvPicPr/>
          <p:nvPr/>
        </p:nvPicPr>
        <p:blipFill>
          <a:blip r:embed="rId1"/>
          <a:stretch/>
        </p:blipFill>
        <p:spPr>
          <a:xfrm>
            <a:off x="255600" y="66600"/>
            <a:ext cx="8437680" cy="78120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93F1-0FCE-4031-8054-3476AC77C656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533520" y="1447920"/>
            <a:ext cx="8153280" cy="405792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template &lt;int </a:t>
            </a: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i&gt;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factorial {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static const int </a:t>
            </a: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value = i*factorial&lt;i-1&gt;::value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template &lt;&gt;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factorial&lt;0&gt; {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static const int </a:t>
            </a: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value = 1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static const int </a:t>
            </a: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X = factorial&lt;5&gt;::value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7200" y="2971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4" name="Title 2" descr=""/>
          <p:cNvPicPr/>
          <p:nvPr/>
        </p:nvPicPr>
        <p:blipFill>
          <a:blip r:embed="rId1"/>
          <a:stretch/>
        </p:blipFill>
        <p:spPr>
          <a:xfrm>
            <a:off x="219240" y="66600"/>
            <a:ext cx="8474040" cy="854280"/>
          </a:xfrm>
          <a:prstGeom prst="rect">
            <a:avLst/>
          </a:prstGeom>
          <a:ln w="0">
            <a:noFill/>
          </a:ln>
        </p:spPr>
      </p:pic>
      <p:sp>
        <p:nvSpPr>
          <p:cNvPr id="285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ED94-F0F1-4E7C-98A5-30857EDE1F9F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609480" y="914400"/>
            <a:ext cx="7696440" cy="201420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actorial(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atic cons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alue = i*factorial!(i-1).value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actorial(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 : 0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atic cons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alue = 1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atic cons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X = factorial!(5).value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609480" y="3581280"/>
            <a:ext cx="7696440" cy="228852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actorial(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atic if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(i==0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atic cons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alue = 1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else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atic cons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alue = i*factorial!(i-1).value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r better, eliminate unnecessary </a:t>
            </a: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struct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using the eponymous template member trick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9" name="Title 2" descr=""/>
          <p:cNvPicPr/>
          <p:nvPr/>
        </p:nvPicPr>
        <p:blipFill>
          <a:blip r:embed="rId1"/>
          <a:stretch/>
        </p:blipFill>
        <p:spPr>
          <a:xfrm>
            <a:off x="219240" y="66600"/>
            <a:ext cx="8474040" cy="85428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56A6-C723-4793-93BB-C29DAB3FECFA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533520" y="1994040"/>
            <a:ext cx="7772400" cy="37515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template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factorial(</a:t>
            </a: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i) {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static if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(i==0) {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enum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factorial = 1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else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enum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factorial = i*factorial!(i-1)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enum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X = factorial!(5)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baxter</dc:creator>
  <dc:description/>
  <dc:language>en-US</dc:language>
  <cp:lastModifiedBy>William V. Baxter</cp:lastModifiedBy>
  <dcterms:modified xsi:type="dcterms:W3CDTF">2009-11-19T02:08:57Z</dcterms:modified>
  <cp:revision>124</cp:revision>
  <dc:subject/>
  <dc:title>Metaprogramming in D:  Real world examples</dc:title>
</cp:coreProperties>
</file>