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09E4-5B5A-46E4-A5EE-336833E1C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n’t really what I do for a living these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not a PL guru by any means, but I enjoy learning about new langu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used D to write research systems for at my previous job at OLM Digital R&amp;D in Toky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here because… Bartoz asked nicely, and I think D is pretty n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DD23-6AFA-48BA-9EB4-F5D34E4F8C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k great.  But have you ever needed something like this?  No, I haven’t ei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D1A9-90F4-412C-B259-36C9139242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source with a only few caveats these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0BF9-D703-4D57-B2CB-F4813D97419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C++0x proposed type maps, but a bit more manu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909B-A3A6-4580-957E-92B7FF75E9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08F9-E12D-4211-8284-9DE919A620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een a popular graphics library (G3D) where these were all written out by hand in a source f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ED79-A23A-4B22-9674-AE3EE0DCE95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ually the raytracer is done without CTFE.  Tom says redoing it with CTFE would make it much faster, but “that wouldn’t be fu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C6CC-39AA-4D57-8C31-D4CDBA8A4DD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emerle uses the exact same syntax at runtime as compil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ually Nemerle macros run a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ompiler plug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first glance this seems like a great way to economize – no complex CTFE engine nee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B2A9-5621-4BBA-BF9D-FCFD6BB149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CTFE is actually just a kind of hyperactive constant fold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mutated neutrinos that have become new elementary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5CC1-D127-46AB-9E30-921C7EAF14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almost has nice macr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get rid of “string” everywhere in defin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rid of  “return” in defin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C407-EE81-4DE3-BB93-084A4AFBF3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much nicer way to do it in D using “CTF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8E17-2FE1-4ED1-BDA2-B09A3DB7F6E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D we can write it pretty much the same way if we wi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we can use a static conditional instead of the functional pattern-matching sty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2541-D33E-45E9-A889-8104CBCA6E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ankfully we can get rid of the grubbish .value nonse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eponymous template member trick, you can get rid of value al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e can actually do even better in 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7D71-A132-4A23-A680-7D6AD6D04A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CEF-9C78-4CE9-B0A9-5C1488A6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8802-97F9-42B2-BD83-7A844E0E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8F6-8743-4D14-A8E2-224CB968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08E-72A6-48AD-ACD4-7334BF84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1C611-4270-4953-B200-DA3F708C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C04FB-2630-49FC-AD1D-5A1F7B28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FFA7D-D2CF-43DC-B7EB-3FCAFE90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39AFA-C074-4D2D-A316-3B251179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B429A-A28D-4509-A67F-B9703513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DEDE6-E56A-4740-96A1-2FD8AFC8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E9205-331E-4780-92BC-DADA4ED7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FDF-D0A4-4570-A6A9-4F8FE48D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D8574-C7FF-4427-B366-CC9EBF06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03300-CE94-4F48-8F9B-0B16CE6E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D4C08-DD53-4805-9F8F-1B0203DB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4A7FA-76A9-41E7-A585-9918C472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035F3-62D1-4C11-91C9-59E33911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EB049-F17E-4E4E-931F-6A289B29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5D9BD-AF40-464F-9B8B-9AA0A5D5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D7869-4A88-46E4-ADFE-3A677651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64987-CD9D-4A70-9005-5CB1655D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F97EE-688B-4287-85EB-A0503F22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FEA-AC3C-4B8B-B6F5-46319C65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EBAF-A894-4727-B57C-B7F30C58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475C1-94DF-453A-83D3-C429B075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C0B4F-6779-49FA-8381-3E816173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3A22A-D778-4A56-B634-FBA53BA4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A58A7-AEE5-4A74-A4F0-B2A381B7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EACEE-8E9D-4C1E-A36D-51ED9C23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A9B95-0AC7-48C6-9B4F-8F579041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17F700-98B1-4146-BCC8-1391D532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0CB57D-71C3-43AB-8004-353833F3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20EE60-F754-4DAB-8C91-FF880D0D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07B-1415-448A-881F-F87291E3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615267-2ED1-4F6E-8374-2C9E92B9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C750CA-E596-41A5-B516-A4BFC9C4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E5716A-B3B7-4CD6-A89F-0E4B307F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D80194-BB33-47E9-8089-DD1B7C2A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AEA6A0-87FA-480D-BCFA-862B48F4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9C914B-2331-4B33-AAB2-81339AE5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1EA86B-5AD8-4ED4-BC50-93AEADA4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1D4B82-06E4-4E34-A893-63A96DDE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83C9A6-872E-4984-B846-46BB9796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C49115-09B8-4B36-8EB3-EE4C1D23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820B-608B-4AC4-ACF0-B2CCBBBA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9B95EC-BE5E-4F37-897E-D43643EF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BDDDFD-0F54-4F66-8787-0ABF093E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99508-3E94-4070-AB7E-2905D492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A36F04-526A-44E8-8B72-80CCDCAC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AB421A-EBCB-4943-81D7-028E6423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80B198-6482-43D5-BB94-19E87B7B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EB62AB-91B5-4324-88BA-285904CB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344F37-C3BA-4272-A951-1F7EE6DB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F90799-A9B7-4237-A942-9D12A1E3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67FB4-91BD-451C-BDF5-6CB4CDC0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A41-F11E-4B8D-9B20-6A4852BC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B084F-92AD-4AF8-B259-EAEC45C6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3266D7-FBF5-4275-B78B-5DCBA539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450624-CEA3-4541-AE7F-8D309115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7EB35F-7DC7-4801-BAE6-92908BFC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358856-A952-44DD-A96E-1BEB6649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E5EB8A-4955-49F0-9CDC-F3499D30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3BB6D-CD3D-42F3-8437-2E52223B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A1168A-B22F-44EF-9A0D-7EE4A973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11689-FE6A-44EE-9DC2-CC091495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64BBBF-BB62-4C6A-B61F-4A578AF5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8EF-7D0C-4488-A5DD-166B2023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492CA8-7956-4148-ACA6-4D49E672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1DAC0D-86B2-4F97-A871-395C5372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116BB7-09F9-445E-AC0E-71CF3A32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79CF-38D6-47E7-AA8E-69C6A955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B38-A900-4874-B01E-CF349FCD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77A8-054A-47AD-A117-DFBE005DE708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62F5-6372-4870-B145-30B865739FF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5984-A70A-44BB-BD2B-BC4A270DBA56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99BC-6F65-4BC5-9806-385F166A1CF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3488-4345-4650-A390-D660A47187FB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67A8-2143-4ABB-B523-A3FB0C0A237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2F84-B2AC-4D76-B3A7-311B301397B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9222-58D4-4713-A392-DC32E601F63D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D27E-4FAC-420A-9071-74E61603BC72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7672-4F07-43D7-BCD3-D3D6DFC6538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A4E9-9C84-4D6F-801D-EAE04D3FA24E}" type="datetime"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D94F-B44E-47E3-93AA-5CBFAFA85CE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Bill Baxte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Northwest C++ Users Grou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November 18, 2009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C4D7-FBFE-4D6A-9786-3AAF42DAFDE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lain functions can be evaluated at compile time!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Or runtime, of course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k, classic example.  Check. But have you ever really needed to do this in real-world code?  Yeh, me neithe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9239-61E1-4B1A-9F80-98CC32B4C1CB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4" name="Title 3" descr=""/>
          <p:cNvPicPr/>
          <p:nvPr/>
        </p:nvPicPr>
        <p:blipFill>
          <a:blip r:embed="rId1"/>
          <a:stretch/>
        </p:blipFill>
        <p:spPr>
          <a:xfrm>
            <a:off x="219240" y="66600"/>
            <a:ext cx="8474040" cy="8542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609480" y="990720"/>
            <a:ext cx="7315200" cy="228852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factorial(</a:t>
            </a: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i) {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return (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i==0)? 1 : i*factorial(i-1)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enum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X = factorial(5)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auto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y = factorial(5)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enum string url = urlencode(“a url with spaces”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olas"/>
              </a:rPr>
              <a:t>assert(url==“a%20url%20with%20spaces”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97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C93F-A099-4F0A-AB4B-ECAC7DE42C9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8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eck template parameter value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r non-trivial condi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t compile-ti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ree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values) checking if token in gramm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values) proper linear congruential paramet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types) checking if type supports concep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078F-06B8-44AE-B7CD-1AF881784B75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1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ant statically checked representation for grammar toke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uld make them be identifiers : </a:t>
            </a: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TOK_if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ut some tokens are not valid identifi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olas"/>
              </a:rPr>
              <a:t>TOK_plus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 instead of  </a:t>
            </a:r>
            <a:r>
              <a:rPr b="0" lang="en-US" sz="2400" spc="-1" strike="noStrike">
                <a:solidFill>
                  <a:srgbClr val="fefac9"/>
                </a:solidFill>
                <a:latin typeface="Consolas"/>
              </a:rPr>
              <a:t>TOK_+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lution: Statically checked template </a:t>
            </a: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Tok!"+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dea thanks to Nick Sabalausky &amp; his Goldie parse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ac9"/>
                </a:solidFill>
                <a:latin typeface="Constantia"/>
              </a:rPr>
              <a:t>http://www.dsource.org/projects/goldie</a:t>
            </a:r>
            <a:endParaRPr b="0" lang="en-US" sz="20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C0F9-D04C-40CC-A843-F605CE7DE8D0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4" name="Title 3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EDF9-E4D6-412E-9CE5-2D0450526A6D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380880" y="457200"/>
            <a:ext cx="8458200" cy="475740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enum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alidTokens = [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+", "-", "sin", "cos”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bool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ValidToken(string tok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oreach(t; ValidTokens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f (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t==tok)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true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false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Token(string Name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atic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assert(isValidToken(Name),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Invalid token: "~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Name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/ ..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Token!(Name) Tok(string Name)() {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Token!(Name)(); }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80880" y="5200560"/>
            <a:ext cx="8458200" cy="14655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auto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O = Tok!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cos"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auto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M = Tok!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+"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auto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Y = Tok!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-"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auto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X = Tok!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*";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/ Error: static assert "Invalid token: *”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imple kind of pseudorandom number generator based on three parameters: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Good parameters satisfy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72560" indent="-4294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and </a:t>
            </a:r>
            <a:r>
              <a:rPr b="0" i="1" lang="en-US" sz="2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are relatively prime;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72560" indent="-4294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−1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 is divisible by all prime factors of </a:t>
            </a:r>
            <a:r>
              <a:rPr b="0" i="1" lang="en-US" sz="2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; and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72560" indent="-4294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if  </a:t>
            </a:r>
            <a:r>
              <a:rPr b="0" i="1" lang="en-US" sz="28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−1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is multiple of 4, then m is a multiple of 4 too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72560" indent="-4294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Thanks to Andrei Alexandrescu for this one (used in D’s std.random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85BA-64D2-4508-94B4-C75C5996A20C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0" name="Title 3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txp_fig.png"/>
          <p:cNvPicPr/>
          <p:nvPr/>
        </p:nvPicPr>
        <p:blipFill>
          <a:blip r:embed="rId2"/>
          <a:stretch/>
        </p:blipFill>
        <p:spPr>
          <a:xfrm>
            <a:off x="1600200" y="2514600"/>
            <a:ext cx="5392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CD0C-62D9-4447-94F5-7D2147F197B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457200" y="152280"/>
            <a:ext cx="8305920" cy="475740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bool 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properLinConParams(</a:t>
            </a: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ulong 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m, </a:t>
            </a: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ulong 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a, </a:t>
            </a: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ulong 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c)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aSansMono-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eraSansMono-Oblique"/>
              </a:rPr>
              <a:t>// Bounds checking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(m == 0 || a == 0 || a &gt;= m || c == 0 || c &gt;= m) </a:t>
            </a: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return false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eraSansMono-Oblique"/>
              </a:rPr>
              <a:t>// c and m are relatively prime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(gcd(c, m) != 1) </a:t>
            </a: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return false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eraSansMono-Oblique"/>
              </a:rPr>
              <a:t>// a - 1 is divisible by all prime factors of 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((a - 1) % primeFactorsOnly(m)) </a:t>
            </a: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return false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eraSansMono-Oblique"/>
              </a:rPr>
              <a:t>// if a - 1 is multiple of 4, then m is a multiple of 4 too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((a - 1) % 4 == 0 &amp;&amp; m % 4) </a:t>
            </a: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return false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eraSansMono-Oblique"/>
              </a:rPr>
              <a:t>// Passed all test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return true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aSansMono-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880" y="5105520"/>
            <a:ext cx="8534520" cy="14655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eraSansMono-Oblique"/>
              </a:rPr>
              <a:t>// Example bad inpu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static assert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(!properLinConParams(</a:t>
            </a:r>
            <a:r>
              <a:rPr b="0" lang="en-US" sz="1800" spc="-1" strike="noStrike">
                <a:solidFill>
                  <a:srgbClr val="000000"/>
                </a:solidFill>
                <a:latin typeface="BeraSansMono-Roman"/>
              </a:rPr>
              <a:t>1UL&lt;&lt;32, 210, 123)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eraSansMono-Oblique"/>
              </a:rPr>
              <a:t>// Example from Numerical Recipes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eraSansMono-Bold"/>
              </a:rPr>
              <a:t>static assert</a:t>
            </a:r>
            <a:r>
              <a:rPr b="1" lang="en-US" sz="1800" spc="-1" strike="noStrike">
                <a:solidFill>
                  <a:srgbClr val="000000"/>
                </a:solidFill>
                <a:latin typeface="BeraSansMono-Roman"/>
              </a:rPr>
              <a:t>(properLinConParams(</a:t>
            </a:r>
            <a:r>
              <a:rPr b="0" lang="en-US" sz="1800" spc="-1" strike="noStrike">
                <a:solidFill>
                  <a:srgbClr val="000000"/>
                </a:solidFill>
                <a:latin typeface="BeraSansMono-Roman"/>
              </a:rPr>
              <a:t>1UL&lt;&lt;32, 1664525, 1013904223)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aSansMono-Roman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1523520"/>
            <a:ext cx="8229600" cy="342900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LinearCongruentialEngine(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UIntT, UIntT a, UIntT c, UIntT m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static assert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(properLinConParams(m, a, c)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    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a31515"/>
                </a:solidFill>
                <a:latin typeface="Consolas"/>
              </a:rPr>
              <a:t>"Incorrect instantiation of  </a:t>
            </a:r>
            <a:r>
              <a:rPr b="0" lang="en-US" sz="2400" spc="-1" strike="noStrike">
                <a:solidFill>
                  <a:srgbClr val="a31515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a31515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a31515"/>
                </a:solidFill>
                <a:latin typeface="Consolas"/>
              </a:rPr>
              <a:t>LinearCongruentialEngine"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5DA1-5CF8-4BB3-9DF1-C08E6F1523AF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TextBox 5"/>
          <p:cNvSpPr/>
          <p:nvPr/>
        </p:nvSpPr>
        <p:spPr>
          <a:xfrm>
            <a:off x="567360" y="762120"/>
            <a:ext cx="27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Usage exampl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380880" y="5181480"/>
            <a:ext cx="779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reating one of these with bad parameters is now impossible, and results in a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compile-time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erro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 introspection on type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ke sure they support a particular interface concept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.g. does this type have </a:t>
            </a:r>
            <a:r>
              <a:rPr b="0" lang="en-US" sz="2400" spc="-1" strike="noStrike">
                <a:solidFill>
                  <a:srgbClr val="fefac9"/>
                </a:solidFill>
                <a:latin typeface="Consolas"/>
              </a:rPr>
              <a:t>.length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nd allow indexing?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laborate Concept support planned for C++0X but collapsed under own weight at the end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 offers some similar capabilit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3283-1253-4C6E-934C-EB404CAEAF09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3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ay we want to create a Vector.  It should accept a scalar type which is closed under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ddi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ubtrac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Multiplica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Divis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325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B227-F9A5-4152-A627-D4F0D4F9EA3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26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609480" y="4114800"/>
            <a:ext cx="8153640" cy="173988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(S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atic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assert(isScalarType!(S)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.stringof ~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 is not a proper scalar type"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/..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413280" y="5867280"/>
            <a:ext cx="48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ow, to define </a:t>
            </a: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isScalarType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ystems programming languag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velopment led by Walter Brigh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piles to native cod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arbage collect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nder continuous development for 10 yea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++ without the mistakes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pen sour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me very nice metaprogramming featur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64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1898-F624-4672-9B17-685E2471D22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9144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ust enumerate the allowable typ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C++ a bunch of specializations, or some funky typelist thi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esn’t extend to user typ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ll out the ducks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2047-1241-4F42-9475-A796BEDD0DCA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1" name="Title 3" descr=""/>
          <p:cNvPicPr/>
          <p:nvPr/>
        </p:nvPicPr>
        <p:blipFill>
          <a:blip r:embed="rId1"/>
          <a:stretch/>
        </p:blipFill>
        <p:spPr>
          <a:xfrm>
            <a:off x="219240" y="66600"/>
            <a:ext cx="8474040" cy="8542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4"/>
          <p:cNvSpPr/>
          <p:nvPr/>
        </p:nvSpPr>
        <p:spPr>
          <a:xfrm>
            <a:off x="838080" y="1371600"/>
            <a:ext cx="3505320" cy="311148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template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ScalarType(S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enum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ScalarType =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(S ==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float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||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(S ==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double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) ||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(S ==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al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) ||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(S ==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) ||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(S ==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long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5029200" y="2133720"/>
            <a:ext cx="3657600" cy="201420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!(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float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)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a; </a:t>
            </a:r>
            <a:r>
              <a:rPr b="0" lang="en-US" sz="1800" spc="-1" strike="noStrike">
                <a:solidFill>
                  <a:srgbClr val="00b050"/>
                </a:solidFill>
                <a:latin typeface="Consolas"/>
              </a:rPr>
              <a:t>// ok!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!(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ring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) b; </a:t>
            </a:r>
            <a:r>
              <a:rPr b="0" lang="en-US" sz="1800" spc="-1" strike="noStrike">
                <a:solidFill>
                  <a:srgbClr val="00b050"/>
                </a:solidFill>
                <a:latin typeface="Consolas"/>
              </a:rPr>
              <a:t>/* nope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nsolas"/>
              </a:rPr>
              <a:t>Error: static assert  "string is not a proper scalar type"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nsolas"/>
              </a:rPr>
              <a:t>*/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44197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oking much more ducky now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e can clean it up a bit more with a small trick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D826-337A-4657-904A-06E8D74A65F5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6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"/>
          <p:cNvSpPr/>
          <p:nvPr/>
        </p:nvSpPr>
        <p:spPr>
          <a:xfrm>
            <a:off x="762120" y="1981080"/>
            <a:ext cx="6172200" cy="228852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template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ScalarType(S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enum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ScalarType =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(typeof(S.init + S.init) == S) &amp;&amp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(typeof(S.init * S.init) == S) &amp;&amp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(typeof(S.init - S.init) == S) &amp;&amp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(typeof(S.init / S.init) == S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05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{ …code }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a delegate literal in 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is(typeof(…))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turns false if the arg is not vali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in drawback to this kind of static concept checking is lack of specific  error messages.  (E.g. “Not a scalar because it doesn’t support addition”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e also: __traits(compiles,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exp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37AC-39EE-4388-B5B0-35009EF3510A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0" name="Title 3" descr=""/>
          <p:cNvPicPr/>
          <p:nvPr/>
        </p:nvPicPr>
        <p:blipFill>
          <a:blip r:embed="rId1"/>
          <a:stretch/>
        </p:blipFill>
        <p:spPr>
          <a:xfrm>
            <a:off x="219240" y="66600"/>
            <a:ext cx="8474040" cy="8542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4"/>
          <p:cNvSpPr/>
          <p:nvPr/>
        </p:nvSpPr>
        <p:spPr>
          <a:xfrm>
            <a:off x="990720" y="1905120"/>
            <a:ext cx="6172200" cy="28371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template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ScalarType(S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enum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ScalarType = is(typeof(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 v,r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 = v+v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 = v-v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 = v*v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 = v/v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)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68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 allows this kind of “constraint syntax” to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 overload templates on different </a:t>
            </a: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if(…)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nstrai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blem is still error messag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fefac9"/>
                </a:solidFill>
                <a:latin typeface="Consolas"/>
              </a:rPr>
              <a:t>Error: Template instance Vector!(string) does not match template declaration Vector(S) if (isScalarType!(S))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” </a:t>
            </a:r>
            <a:br>
              <a:rPr sz="2400"/>
            </a:b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--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well? why not?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7DB0-85A4-4079-B316-D0EE6D52AC66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4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"/>
          <p:cNvSpPr/>
          <p:nvPr/>
        </p:nvSpPr>
        <p:spPr>
          <a:xfrm>
            <a:off x="838080" y="2057400"/>
            <a:ext cx="5943600" cy="91692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(S)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(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sScalarType!(S)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/..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E11F-7F35-4DA2-8908-4E5FC8419E7B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8" name="Title 3" descr=""/>
          <p:cNvPicPr/>
          <p:nvPr/>
        </p:nvPicPr>
        <p:blipFill>
          <a:blip r:embed="rId2"/>
          <a:stretch/>
        </p:blipFill>
        <p:spPr>
          <a:xfrm>
            <a:off x="219240" y="139680"/>
            <a:ext cx="8474040" cy="86040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6"/>
          <p:cNvSpPr/>
          <p:nvPr/>
        </p:nvSpPr>
        <p:spPr>
          <a:xfrm>
            <a:off x="228600" y="1325520"/>
            <a:ext cx="8686800" cy="544788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template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checkScalarType(S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static if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(!is(typeof(S.init + S.init) == S)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pragma(msg, S.stringof ~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Error: is not closed under addition"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static if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(!is(typeof(S.init - S.init) == S)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pragma(msg, S.stringof ~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Error: is not closed under subtraction"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static if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(!is(typeof(S.init * S.init) == S)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pragma(msg, S.stringof ~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 is not closed under multiplication"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static if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(!is(typeof(S.init / S.init) == S)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pragma(msg, S.stringof ~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 is not closed under division"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enum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isScalarType = is(typeof(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S v,r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r = v+v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r = v-v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r = v*v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r = v/v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)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r… except Go doesn’t have operator overloading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 generic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926B-0A7E-4A77-BBF3-65C225D3896F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2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4"/>
          <p:cNvSpPr/>
          <p:nvPr/>
        </p:nvSpPr>
        <p:spPr>
          <a:xfrm>
            <a:off x="1752480" y="1600200"/>
            <a:ext cx="4572000" cy="311148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  <a:ea typeface="Times New Roman"/>
              </a:rPr>
              <a:t>interface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ScalarType&lt;T&gt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T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  <a:ea typeface="Times New Roman"/>
              </a:rPr>
              <a:t>operator+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(T,T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T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  <a:ea typeface="Times New Roman"/>
              </a:rPr>
              <a:t>operator-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(T,T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T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  <a:ea typeface="Times New Roman"/>
              </a:rPr>
              <a:t>operator*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(T,T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T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  <a:ea typeface="Times New Roman"/>
              </a:rPr>
              <a:t>operator/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(T,T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  <a:ea typeface="Times New Roman"/>
              </a:rPr>
              <a:t>struc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Vector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ScalarType x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++1X concepts  -- not going in C++0x, but probably will some da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re compiler will do the line-by-line checking of the concept against input, and give decent error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D072-1A7A-4E05-8FC2-BD720CB44B4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6" name="Title 3" descr=""/>
          <p:cNvPicPr/>
          <p:nvPr/>
        </p:nvPicPr>
        <p:blipFill>
          <a:blip r:embed="rId1"/>
          <a:stretch/>
        </p:blipFill>
        <p:spPr>
          <a:xfrm>
            <a:off x="219240" y="66600"/>
            <a:ext cx="8474040" cy="8542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4"/>
          <p:cNvSpPr/>
          <p:nvPr/>
        </p:nvSpPr>
        <p:spPr>
          <a:xfrm>
            <a:off x="2971800" y="1407960"/>
            <a:ext cx="4572000" cy="393444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oncept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ScalarType&lt;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typename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&gt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Var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&lt;S&gt; v,r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 = v+v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 = v-v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 = v*v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 = v/v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template&lt;typename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&gt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where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calarType&lt;S&gt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8380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rroring if type doesn’t support concept is often not as useful as working around the missing functionalit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 – just omit Vector ops if underlying scalar op not define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9" name="Title 2" descr=""/>
          <p:cNvPicPr/>
          <p:nvPr/>
        </p:nvPicPr>
        <p:blipFill>
          <a:blip r:embed="rId1"/>
          <a:stretch/>
        </p:blipFill>
        <p:spPr>
          <a:xfrm>
            <a:off x="219240" y="66600"/>
            <a:ext cx="8632800" cy="85428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9C65-76C5-482A-82A5-5AEF96071A1F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380880" y="2590920"/>
            <a:ext cx="7467840" cy="42087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(S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[3] values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atic if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(is(typeof(S.init + S.init)==S)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 opAdd(ref Vector o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 ret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oreach(i; 0..3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et.values[i] = values[i] + o.values[i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et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715000" y="5105520"/>
            <a:ext cx="2819520" cy="1191240"/>
          </a:xfrm>
          <a:prstGeom prst="rect">
            <a:avLst/>
          </a:prstGeom>
          <a:solidFill>
            <a:srgbClr val="dbe1d3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!(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float)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a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!(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har)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b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a+a;  // ok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b+b;  // error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s: loop unrolling, vector swizz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ey enabling feature:  string </a:t>
            </a: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mixi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mple example from documentatio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w the one-two punch: The strings themselves can come from CTF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4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A65A-724D-42DE-8968-742EF12AE2DB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5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"/>
          <p:cNvSpPr/>
          <p:nvPr/>
        </p:nvSpPr>
        <p:spPr>
          <a:xfrm>
            <a:off x="800280" y="2975400"/>
            <a:ext cx="5362560" cy="100872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string </a:t>
            </a: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s = </a:t>
            </a:r>
            <a:r>
              <a:rPr b="0" lang="en-US" sz="2000" spc="-1" strike="noStrike">
                <a:solidFill>
                  <a:srgbClr val="a31515"/>
                </a:solidFill>
                <a:latin typeface="Consolas"/>
              </a:rPr>
              <a:t>"int y;"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mixin(s);  </a:t>
            </a:r>
            <a:r>
              <a:rPr b="0" lang="en-US" sz="2000" spc="-1" strike="noStrike">
                <a:solidFill>
                  <a:srgbClr val="008000"/>
                </a:solidFill>
                <a:latin typeface="Consolas"/>
              </a:rPr>
              <a:t>// ok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001"/>
                </a:solidFill>
                <a:latin typeface="Consolas"/>
              </a:rPr>
              <a:t>y = 4;     </a:t>
            </a:r>
            <a:r>
              <a:rPr b="0" lang="es-ES" sz="2000" spc="-1" strike="noStrike">
                <a:solidFill>
                  <a:srgbClr val="008000"/>
                </a:solidFill>
                <a:latin typeface="Consolas"/>
              </a:rPr>
              <a:t>// ok, mixin declared 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990720" y="4800600"/>
            <a:ext cx="4572000" cy="173988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declareInt(string name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int " ~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name ~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;"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mixin(declareInt(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y"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))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y = 4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ndy in a  </a:t>
            </a:r>
            <a:r>
              <a:rPr b="0" lang="en-US" sz="2600" spc="-1" strike="noStrike">
                <a:solidFill>
                  <a:srgbClr val="fefac9"/>
                </a:solidFill>
                <a:latin typeface="Consolas"/>
              </a:rPr>
              <a:t>Vector(T, int N)</a:t>
            </a: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yp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CDD4-D1DB-45A9-BFB3-71B7FE3954FB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0" name="Title 3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533520" y="1828800"/>
            <a:ext cx="8305560" cy="228852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unroll(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N,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=0)(string expr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atic if(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&lt;N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subs_expr = ctReplace(expr,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%s",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toStringNow!i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pt-BR" sz="18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pt-BR" sz="1800" spc="-1" strike="noStrike">
                <a:solidFill>
                  <a:srgbClr val="010001"/>
                </a:solidFill>
                <a:latin typeface="Consolas"/>
              </a:rPr>
              <a:t>subs_expr ~ </a:t>
            </a:r>
            <a:r>
              <a:rPr b="0" lang="pt-BR" sz="1800" spc="-1" strike="noStrike">
                <a:solidFill>
                  <a:srgbClr val="a31515"/>
                </a:solidFill>
                <a:latin typeface="Consolas"/>
              </a:rPr>
              <a:t>"\n" ~ </a:t>
            </a:r>
            <a:r>
              <a:rPr b="0" lang="pt-BR" sz="1800" spc="-1" strike="noStrike">
                <a:solidFill>
                  <a:srgbClr val="010001"/>
                </a:solidFill>
                <a:latin typeface="Consolas"/>
              </a:rPr>
              <a:t>unroll!(N,i+1)(expr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"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533520" y="4267080"/>
            <a:ext cx="7086600" cy="64260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enum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expr =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values_[%s] += _rhs[%s];"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ragma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(msg, unroll!(3)(expr)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533520" y="5400720"/>
            <a:ext cx="45720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Lucida Console"/>
              </a:rPr>
              <a:t>values_[0] += _rhs[0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Lucida Console"/>
              </a:rPr>
              <a:t>values_[1] += _rhs[1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Lucida Console"/>
              </a:rPr>
              <a:t>values_[2] += _rhs[2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381600" y="388620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Example us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79080" y="4952880"/>
            <a:ext cx="27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Compile-time output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Metaprogramming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the writing of computer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programs that write or manipulate other programs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or themselves) as their data, or that do part of the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work at compile time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at would otherwise be done at runtime.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(Wikipedia definintion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67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05B6-BFBC-4622-9575-AE0003553D92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ypical us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7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5E5A-7F36-4F0A-9296-4D078B730A51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533520" y="914400"/>
            <a:ext cx="8153280" cy="338580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(T,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N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T[N] values_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// this += rhs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ef Vector opAddAssign(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*const*/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ref Vector rhs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ons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expr =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values_[%s] += rhs.values_[%s];"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        </a:t>
            </a:r>
            <a:r>
              <a:rPr b="1" lang="en-US" sz="1800" spc="-1" strike="noStrike">
                <a:solidFill>
                  <a:srgbClr val="010001"/>
                </a:solidFill>
                <a:latin typeface="Consolas"/>
              </a:rPr>
              <a:t>mixin( unroll!(N)(expr) 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this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dern GPU shading languages support special “swizzle”  syntax for shuffling values in a vect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0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29BA-1233-494C-9948-5769FD382C6C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1" name="Title 3" descr=""/>
          <p:cNvPicPr/>
          <p:nvPr/>
        </p:nvPicPr>
        <p:blipFill>
          <a:blip r:embed="rId1"/>
          <a:stretch/>
        </p:blipFill>
        <p:spPr>
          <a:xfrm>
            <a:off x="255600" y="23760"/>
            <a:ext cx="8437680" cy="13543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4"/>
          <p:cNvSpPr/>
          <p:nvPr/>
        </p:nvSpPr>
        <p:spPr>
          <a:xfrm>
            <a:off x="1219320" y="2895480"/>
            <a:ext cx="4572000" cy="91692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loat4 A(1,2,3,4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loat4 B = A.xxwz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assert( B == float4(1,1,4,3) 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1219320" y="4038480"/>
            <a:ext cx="4572000" cy="64260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loat2 C = A.yz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assert( C == float2(2,3) 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85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B5B2-CFEF-45EF-BA81-9F6A86581FE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838080" y="76320"/>
            <a:ext cx="6019920" cy="256284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/** </a:t>
            </a:r>
            <a:r>
              <a:rPr b="0" lang="en-US" sz="1800" spc="-1" strike="noStrike">
                <a:solidFill>
                  <a:srgbClr val="008000"/>
                </a:solidFill>
                <a:latin typeface="Constantia"/>
              </a:rPr>
              <a:t>Generate a swizzling function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tantia"/>
              </a:rPr>
              <a:t>         </a:t>
            </a:r>
            <a:r>
              <a:rPr b="0" lang="en-US" sz="1800" spc="-1" strike="noStrike">
                <a:solidFill>
                  <a:srgbClr val="008000"/>
                </a:solidFill>
                <a:latin typeface="Constantia"/>
              </a:rPr>
              <a:t>Example: </a:t>
            </a:r>
            <a:r>
              <a:rPr b="1" lang="en-US" sz="1800" spc="-1" strike="noStrike">
                <a:solidFill>
                  <a:srgbClr val="008000"/>
                </a:solidFill>
                <a:latin typeface="Consolas"/>
              </a:rPr>
              <a:t>_gen_swizzle("xyzzy")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Constantia"/>
              </a:rPr>
              <a:t>returns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"""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VectorT!(T,6) xyzzy() const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return VectorT!(T,6)(x,y,z,z,y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"""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nsolas"/>
              </a:rPr>
              <a:t>*/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838080" y="3048120"/>
            <a:ext cx="7239240" cy="366012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_gen_swizzle(string swiz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args =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"~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wiz[0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oreach(c; swiz[1..$]) args ~=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, " ~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c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code =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ctFormat(q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T!(T,%s) %s()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cons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            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ectorT!(T,%s)(%s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,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wiz.length, swiz, swiz.length, args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code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ut we need to generate </a:t>
            </a:r>
            <a:r>
              <a:rPr b="0" i="1" lang="en-US" sz="2600" spc="-1" strike="noStrike">
                <a:solidFill>
                  <a:srgbClr val="ffffff"/>
                </a:solidFill>
                <a:latin typeface="Constantia"/>
              </a:rPr>
              <a:t>all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wizzles up to a given length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0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7240-3BAB-414D-9579-E823B78E5D8B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990720" y="442800"/>
            <a:ext cx="7924680" cy="612900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_gen_all_swizzles(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len,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rcdig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f (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len &lt;= 0)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"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elem =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xyzw"[0..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rcdig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code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oreach (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genlen; 2..len+1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combos = 1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oreach(a; 0..genlen) { combos *= srcdig; 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oreach(i; 0..combos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swiz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wizcode = i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oreach(j; 0..genlen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wiz ~= elem[swizcode % srcdig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wizcode /= srcdig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code ~= </a:t>
            </a:r>
            <a:r>
              <a:rPr b="1" lang="en-US" sz="1800" spc="-1" strike="noStrike">
                <a:solidFill>
                  <a:srgbClr val="010001"/>
                </a:solidFill>
                <a:latin typeface="Consolas"/>
              </a:rPr>
              <a:t>_gen_swizzle(swiz)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code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93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71B9-8A03-4B14-A96F-6A232CA935E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990720" y="0"/>
            <a:ext cx="6858000" cy="691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VectorT!(T,2) xx(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return VectorT!(T,2)(x, x)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VectorT!(T,2) yx(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return VectorT!(T,2)(y, x)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VectorT!(T,2) xy(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return VectorT!(T,2)(x, y)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VectorT!(T,2) yy(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return VectorT!(T,2)(y, y)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VectorT!(T,3) xxx(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return VectorT!(T,3)(x, x, x)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VectorT!(T,3) yxx(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return VectorT!(T,3)(y, x, x);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                </a:t>
            </a:r>
            <a:r>
              <a:rPr b="0" lang="en-US" sz="1400" spc="-1" strike="noStrike">
                <a:solidFill>
                  <a:srgbClr val="92d050"/>
                </a:solidFill>
                <a:latin typeface="Lucida Console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most no.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ich is to say, y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TFE limitations:  no structs/classes, no C func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ompiler bugs: massive memory leak in CTF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owever, these have been demonstrated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Compile-time raytracer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(Tomasz Stachowiak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Wrapper generation (PyD, Kirk McDonald)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Compile-time regular expression parsing (meta.regexp, Eric Anderton).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Compile-time parsing DSL parsing </a:t>
            </a:r>
            <a:br>
              <a:rPr sz="2800"/>
            </a:b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(???, BCS?)</a:t>
            </a:r>
            <a:endParaRPr b="0" lang="en-US" sz="28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397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4D99-119C-4CF2-97CA-1659ED38DC29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8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400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78B4-134D-4229-B563-3544965491BA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228600" y="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5"/>
          <p:cNvSpPr/>
          <p:nvPr/>
        </p:nvSpPr>
        <p:spPr>
          <a:xfrm>
            <a:off x="228600" y="64882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otal rendering/compilation time: 26148 seconds (on a 1.7GHz laptop)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405" name="Title 3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sp>
        <p:nvSpPr>
          <p:cNvPr id="406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6C49-4F8D-4CC9-9951-FE9BC626F5D5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TFE calc vs Template calc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emplates can do calculations on </a:t>
            </a:r>
            <a:r>
              <a:rPr b="1" lang="en-US" sz="2400" spc="-1" strike="noStrike">
                <a:solidFill>
                  <a:srgbClr val="fefac9"/>
                </a:solidFill>
                <a:latin typeface="Constantia"/>
              </a:rPr>
              <a:t>Types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r </a:t>
            </a:r>
            <a:r>
              <a:rPr b="1" lang="en-US" sz="2400" spc="-1" strike="noStrike">
                <a:solidFill>
                  <a:srgbClr val="fefac9"/>
                </a:solidFill>
                <a:latin typeface="Constantia"/>
              </a:rPr>
              <a:t>Valu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TFE can only do </a:t>
            </a:r>
            <a:r>
              <a:rPr b="1" lang="en-US" sz="2400" spc="-1" strike="noStrike">
                <a:solidFill>
                  <a:srgbClr val="fefac9"/>
                </a:solidFill>
                <a:latin typeface="Constantia"/>
              </a:rPr>
              <a:t>Value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calculation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emplate </a:t>
            </a:r>
            <a:r>
              <a:rPr b="0" lang="en-US" sz="24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CTFE is OK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But not CTFE </a:t>
            </a:r>
            <a:r>
              <a:rPr b="0" lang="en-US" sz="24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Templat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TFE supports richer syntax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lso Templates instantiate symbols and cause bloat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nclusio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If doing  value calcs,  always prefer CTFE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A09F-1460-46FE-8222-A0C6F805E73D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9" name="Title 3" descr=""/>
          <p:cNvPicPr/>
          <p:nvPr/>
        </p:nvPicPr>
        <p:blipFill>
          <a:blip r:embed="rId1"/>
          <a:stretch/>
        </p:blipFill>
        <p:spPr>
          <a:xfrm>
            <a:off x="219240" y="139680"/>
            <a:ext cx="847404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6840" y="685800"/>
            <a:ext cx="3048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merle macr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862E-3CC7-4E98-8D66-F4B176FF7FE6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2" name="Title 3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86040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4"/>
          <p:cNvSpPr/>
          <p:nvPr/>
        </p:nvSpPr>
        <p:spPr>
          <a:xfrm>
            <a:off x="609480" y="1143000"/>
            <a:ext cx="5486400" cy="1554120"/>
          </a:xfrm>
          <a:prstGeom prst="rect">
            <a:avLst/>
          </a:prstGeom>
          <a:solidFill>
            <a:srgbClr val="dfe5ca"/>
          </a:solidFill>
          <a:ln w="9360">
            <a:solidFill>
              <a:srgbClr val="a5b5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macro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m () 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Nemerle.IO.printf (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compile-time\n"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&lt;[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Nemerle.IO.printf (</a:t>
            </a:r>
            <a:r>
              <a:rPr b="0" lang="en-US" sz="1600" spc="-1" strike="noStrike">
                <a:solidFill>
                  <a:srgbClr val="a31515"/>
                </a:solidFill>
                <a:latin typeface="Consolas"/>
              </a:rPr>
              <a:t>"run-time\n") ]&gt;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m (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609480" y="4495680"/>
            <a:ext cx="5410440" cy="173988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string m(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pragma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(msg, 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compile-time")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q{writefln(</a:t>
            </a:r>
            <a:r>
              <a:rPr b="0" lang="en-US" sz="1800" spc="-1" strike="noStrike">
                <a:solidFill>
                  <a:srgbClr val="a31515"/>
                </a:solidFill>
                <a:latin typeface="Consolas"/>
              </a:rPr>
              <a:t>"run-time")</a:t>
            </a:r>
            <a:r>
              <a:rPr b="0" lang="en-US" sz="1800" spc="-1" strike="noStrike">
                <a:solidFill>
                  <a:srgbClr val="000000"/>
                </a:solidFill>
                <a:latin typeface="Consolas"/>
              </a:rPr>
              <a:t>;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mixin(m()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5" name="Content Placeholder 1"/>
          <p:cNvSpPr/>
          <p:nvPr/>
        </p:nvSpPr>
        <p:spPr>
          <a:xfrm>
            <a:off x="609480" y="3962520"/>
            <a:ext cx="3048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 “macro”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pile time consta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atic check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de specialization using introspe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de gene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70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63E6-BD15-43E5-9196-6BDCF4171C3B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TFE is constant folding on steroids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75640" indent="-2455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“</a:t>
            </a: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Simply taking constant folding to its logical conclusions” </a:t>
            </a:r>
            <a:br>
              <a:rPr sz="2200"/>
            </a:b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– Don Clugston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nst int x = 2+4;  </a:t>
            </a:r>
            <a:r>
              <a:rPr b="0" i="1" lang="en-US" sz="2400" spc="-1" strike="noStrike">
                <a:solidFill>
                  <a:srgbClr val="fadbb5"/>
                </a:solidFill>
                <a:latin typeface="Constantia"/>
              </a:rPr>
              <a:t>// many compilers will fold thi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t add(int a, int b){return a+b;}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nst int x = add(2,4);  </a:t>
            </a:r>
            <a:r>
              <a:rPr b="0" i="1" lang="en-US" sz="2400" spc="-1" strike="noStrike">
                <a:solidFill>
                  <a:srgbClr val="fadbb5"/>
                </a:solidFill>
                <a:latin typeface="Constantia"/>
              </a:rPr>
              <a:t>// some may inline/fold thi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nst int x = factorial(5); </a:t>
            </a:r>
            <a:r>
              <a:rPr b="0" i="1" lang="en-US" sz="2400" spc="-1" strike="noStrike">
                <a:solidFill>
                  <a:srgbClr val="fadbb5"/>
                </a:solidFill>
                <a:latin typeface="Constantia"/>
              </a:rPr>
              <a:t>// does any but DMD do this?            </a:t>
            </a:r>
            <a:br>
              <a:rPr sz="2400"/>
            </a:br>
            <a:r>
              <a:rPr b="0" i="1" lang="en-US" sz="2400" spc="-1" strike="noStrike">
                <a:solidFill>
                  <a:srgbClr val="fadbb5"/>
                </a:solidFill>
                <a:latin typeface="Constantia"/>
              </a:rPr>
              <a:t>	</a:t>
            </a:r>
            <a:r>
              <a:rPr b="0" i="1" lang="en-US" sz="2400" spc="-1" strike="noStrike">
                <a:solidFill>
                  <a:srgbClr val="fadbb5"/>
                </a:solidFill>
                <a:latin typeface="Constantia"/>
              </a:rPr>
              <a:t>	</a:t>
            </a:r>
            <a:r>
              <a:rPr b="0" i="1" lang="en-US" sz="2400" spc="-1" strike="noStrike">
                <a:solidFill>
                  <a:srgbClr val="fadbb5"/>
                </a:solidFill>
                <a:latin typeface="Constantia"/>
              </a:rPr>
              <a:t>	</a:t>
            </a:r>
            <a:r>
              <a:rPr b="0" i="1" lang="en-US" sz="2400" spc="-1" strike="noStrike">
                <a:solidFill>
                  <a:srgbClr val="fadbb5"/>
                </a:solidFill>
                <a:latin typeface="Constantia"/>
              </a:rPr>
              <a:t>// maybe some functional languages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 general, why not evaluate as much as you can up front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7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5C7B-DC60-4D84-9D32-32887EBDCB9A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8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420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2BCC-8F40-4042-9D71-04D3F5F7616D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1" name="Title 3" descr=""/>
          <p:cNvPicPr/>
          <p:nvPr/>
        </p:nvPicPr>
        <p:blipFill>
          <a:blip r:embed="rId2"/>
          <a:stretch/>
        </p:blipFill>
        <p:spPr>
          <a:xfrm>
            <a:off x="66600" y="189000"/>
            <a:ext cx="671760" cy="374976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762120" y="0"/>
            <a:ext cx="8229600" cy="277092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macro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For (init, cond, change, body)  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&lt;[$init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def loop () :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(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$cond) { $body; $change; loop() }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(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loop (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]&gt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Consolas"/>
              </a:rPr>
              <a:t>For(</a:t>
            </a:r>
            <a:r>
              <a:rPr b="0" lang="nn-NO" sz="1600" spc="-1" strike="noStrike">
                <a:solidFill>
                  <a:srgbClr val="0000ff"/>
                </a:solidFill>
                <a:latin typeface="Consolas"/>
              </a:rPr>
              <a:t>mutable </a:t>
            </a: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i = 0, i &lt; 10, i++, printf (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"%d", </a:t>
            </a: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i)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762120" y="2971800"/>
            <a:ext cx="8229600" cy="374436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string For(string init, string cond, string change, string bod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return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ctFormat(q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%s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loop() 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(%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s) { %s; %s; loop(); }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loop(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, init, cond, bod, change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main() 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mixin(For(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"int i = 0"</a:t>
            </a:r>
            <a:r>
              <a:rPr b="0" lang="nn-NO" sz="1600" spc="-1" strike="noStrike">
                <a:solidFill>
                  <a:srgbClr val="000000"/>
                </a:solidFill>
                <a:latin typeface="Consolas"/>
              </a:rPr>
              <a:t>,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 "i &lt; 10"</a:t>
            </a:r>
            <a:r>
              <a:rPr b="0" lang="nn-NO" sz="1600" spc="-1" strike="noStrike">
                <a:solidFill>
                  <a:srgbClr val="000000"/>
                </a:solidFill>
                <a:latin typeface="Consolas"/>
              </a:rPr>
              <a:t>,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 "i++"</a:t>
            </a:r>
            <a:r>
              <a:rPr b="0" lang="nn-NO" sz="1600" spc="-1" strike="noStrike">
                <a:solidFill>
                  <a:srgbClr val="000000"/>
                </a:solidFill>
                <a:latin typeface="Consolas"/>
              </a:rPr>
              <a:t>,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              </a:t>
            </a: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q{writefln(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"%d"</a:t>
            </a:r>
            <a:r>
              <a:rPr b="0" lang="nn-NO" sz="1600" spc="-1" strike="noStrike">
                <a:solidFill>
                  <a:srgbClr val="000000"/>
                </a:solidFill>
                <a:latin typeface="Consolas"/>
              </a:rPr>
              <a:t>,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 </a:t>
            </a: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i)})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6798240" y="15228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emerl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8238600" y="3200400"/>
            <a:ext cx="5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427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DFE3-CBA6-4E86-B1B7-6D2E87281D16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762120" y="0"/>
            <a:ext cx="8229600" cy="277092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macro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For (init, cond, change, body)  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&lt;[$init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def loop () :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(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$cond) { $body; $change; loop() }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else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(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loop (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]&gt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00000"/>
                </a:solidFill>
                <a:latin typeface="Consolas"/>
              </a:rPr>
              <a:t>For(</a:t>
            </a:r>
            <a:r>
              <a:rPr b="0" lang="nn-NO" sz="1600" spc="-1" strike="noStrike">
                <a:solidFill>
                  <a:srgbClr val="0000ff"/>
                </a:solidFill>
                <a:latin typeface="Consolas"/>
              </a:rPr>
              <a:t>mutable </a:t>
            </a: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i = 0, i &lt; 10, i++, printf (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"%d", </a:t>
            </a: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i)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762120" y="2971800"/>
            <a:ext cx="8229600" cy="3744360"/>
          </a:xfrm>
          <a:prstGeom prst="rect">
            <a:avLst/>
          </a:prstGeom>
          <a:solidFill>
            <a:srgbClr val="dfe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string For(string init, string cond, string change, string bod)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return mixin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(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ctInterpolate(q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1" lang="en-US" sz="1600" spc="-1" strike="noStrike">
                <a:solidFill>
                  <a:srgbClr val="010001"/>
                </a:solidFill>
                <a:latin typeface="Consolas"/>
              </a:rPr>
              <a:t>$init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loop() 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    </a:t>
            </a: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Consolas"/>
              </a:rPr>
              <a:t>$cond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) { </a:t>
            </a:r>
            <a:r>
              <a:rPr b="1" lang="en-US" sz="1600" spc="-1" strike="noStrike">
                <a:solidFill>
                  <a:srgbClr val="010001"/>
                </a:solidFill>
                <a:latin typeface="Consolas"/>
              </a:rPr>
              <a:t>$bod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; </a:t>
            </a:r>
            <a:r>
              <a:rPr b="1" lang="en-US" sz="1600" spc="-1" strike="noStrike">
                <a:solidFill>
                  <a:srgbClr val="010001"/>
                </a:solidFill>
                <a:latin typeface="Consolas"/>
              </a:rPr>
              <a:t>$change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; loop(); }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loop(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nsolas"/>
              </a:rPr>
              <a:t>void </a:t>
            </a: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main() {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mixin(For(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"int i = 0"</a:t>
            </a:r>
            <a:r>
              <a:rPr b="0" lang="nn-NO" sz="1600" spc="-1" strike="noStrike">
                <a:solidFill>
                  <a:srgbClr val="000000"/>
                </a:solidFill>
                <a:latin typeface="Consolas"/>
              </a:rPr>
              <a:t>,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 "i &lt; 10"</a:t>
            </a:r>
            <a:r>
              <a:rPr b="0" lang="nn-NO" sz="1600" spc="-1" strike="noStrike">
                <a:solidFill>
                  <a:srgbClr val="000000"/>
                </a:solidFill>
                <a:latin typeface="Consolas"/>
              </a:rPr>
              <a:t>,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 "i++"</a:t>
            </a:r>
            <a:r>
              <a:rPr b="0" lang="nn-NO" sz="1600" spc="-1" strike="noStrike">
                <a:solidFill>
                  <a:srgbClr val="000000"/>
                </a:solidFill>
                <a:latin typeface="Consolas"/>
              </a:rPr>
              <a:t>,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              </a:t>
            </a: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q{writefln(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"%d"</a:t>
            </a:r>
            <a:r>
              <a:rPr b="0" lang="nn-NO" sz="1600" spc="-1" strike="noStrike">
                <a:solidFill>
                  <a:srgbClr val="000000"/>
                </a:solidFill>
                <a:latin typeface="Consolas"/>
              </a:rPr>
              <a:t>,</a:t>
            </a:r>
            <a:r>
              <a:rPr b="0" lang="nn-NO" sz="1600" spc="-1" strike="noStrike">
                <a:solidFill>
                  <a:srgbClr val="a31515"/>
                </a:solidFill>
                <a:latin typeface="Consolas"/>
              </a:rPr>
              <a:t> </a:t>
            </a:r>
            <a:r>
              <a:rPr b="0" lang="nn-NO" sz="1600" spc="-1" strike="noStrike">
                <a:solidFill>
                  <a:srgbClr val="010001"/>
                </a:solidFill>
                <a:latin typeface="Consolas"/>
              </a:rPr>
              <a:t>i)})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1" name="Title 3" descr=""/>
          <p:cNvPicPr/>
          <p:nvPr/>
        </p:nvPicPr>
        <p:blipFill>
          <a:blip r:embed="rId2"/>
          <a:stretch/>
        </p:blipFill>
        <p:spPr>
          <a:xfrm>
            <a:off x="66600" y="189000"/>
            <a:ext cx="671760" cy="374976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7"/>
          <p:cNvSpPr/>
          <p:nvPr/>
        </p:nvSpPr>
        <p:spPr>
          <a:xfrm>
            <a:off x="6798240" y="15228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Nemerl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8238600" y="3200400"/>
            <a:ext cx="5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ick Sabalausky – encode/decode, tokens examp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drei Alexandrescu – std.random examp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m Stachowiak – swizzle example and ctra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alter Bright – for 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579B-25AA-4A6F-BBA0-65A0954E9811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6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is, Stroustrup,   "Specifying C++ Concepts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Annual Symposium on Principles of Programming Languages, 2006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ta.regexp: http://www.dsource.org/me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trace raytracer: http://h3.team0xf.com/ctrace/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d.random:</a:t>
            </a:r>
            <a:br>
              <a:rPr sz="2600"/>
            </a:b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http://www.digitalmars.com/d/2.0/phobos/std_random.htm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n excerpt from Andrei’s upcomming TDPL book: http://erdani.com/tdpl/excerpt.pdf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58CF-FBBD-40CF-85F0-9B2A82A09001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9" name="Title 3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mplat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static asser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static if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pile time function evaluation (CTFE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pragma(msg, …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.stringof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is(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ring </a:t>
            </a: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mixi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olas"/>
              </a:rPr>
              <a:t>__trai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Title 2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699400" cy="1231920"/>
          </a:xfrm>
          <a:prstGeom prst="rect">
            <a:avLst/>
          </a:prstGeom>
          <a:ln w="0">
            <a:noFill/>
          </a:ln>
        </p:spPr>
      </p:pic>
      <p:sp>
        <p:nvSpPr>
          <p:cNvPr id="273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5481-BCAB-4454-B0E0-1BD802DE1FBC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ch like C++ templat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++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template&lt;class T&gt; T add(T a, T b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{ return a+b; }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template T add(T)(T a, T b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{ return a+b; }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T add(T)(T a, T b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{ return a+b; }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6007320" y="289548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++ call syntax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add&lt;int&gt;(2,3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6077160" y="434340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 Call syntax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add!(int)(2,3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add!int(2,3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add(2,3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362D-2F0A-47F8-825C-0DB107EAC921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837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assic C++ functional-style defini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Title 2" descr=""/>
          <p:cNvPicPr/>
          <p:nvPr/>
        </p:nvPicPr>
        <p:blipFill>
          <a:blip r:embed="rId1"/>
          <a:stretch/>
        </p:blipFill>
        <p:spPr>
          <a:xfrm>
            <a:off x="255600" y="66600"/>
            <a:ext cx="8437680" cy="78120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B633-ABEF-4981-9F90-827B011580E0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33520" y="1447920"/>
            <a:ext cx="8153280" cy="405792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template &lt;int </a:t>
            </a: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i&gt;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factorial {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static const int </a:t>
            </a: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value = i*factorial&lt;i-1&gt;::value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template &lt;&gt;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factorial&lt;0&gt; {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static const int </a:t>
            </a: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value = 1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nsolas"/>
              </a:rPr>
              <a:t>static const int </a:t>
            </a:r>
            <a:r>
              <a:rPr b="0" lang="en-US" sz="2000" spc="-1" strike="noStrike">
                <a:solidFill>
                  <a:srgbClr val="010001"/>
                </a:solidFill>
                <a:latin typeface="Consolas"/>
              </a:rPr>
              <a:t>X = factorial&lt;5&gt;::value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2971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4" name="Title 2" descr=""/>
          <p:cNvPicPr/>
          <p:nvPr/>
        </p:nvPicPr>
        <p:blipFill>
          <a:blip r:embed="rId1"/>
          <a:stretch/>
        </p:blipFill>
        <p:spPr>
          <a:xfrm>
            <a:off x="219240" y="66600"/>
            <a:ext cx="8474040" cy="854280"/>
          </a:xfrm>
          <a:prstGeom prst="rect">
            <a:avLst/>
          </a:prstGeom>
          <a:ln w="0">
            <a:noFill/>
          </a:ln>
        </p:spPr>
      </p:pic>
      <p:sp>
        <p:nvSpPr>
          <p:cNvPr id="285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9AD3-1024-4AF8-9180-8F0445EA75E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609480" y="914400"/>
            <a:ext cx="7696440" cy="201420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actorial(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atic cons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alue = i*factorial!(i-1).value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actorial(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 : 0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atic cons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alue = 1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atic cons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X = factorial!(5).value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609480" y="3581280"/>
            <a:ext cx="7696440" cy="228852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ruc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factorial(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i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atic if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(i==0) 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atic cons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alue = 1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else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Consolas"/>
              </a:rPr>
              <a:t>static const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value = i*factorial!(i-1).value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r better, eliminate unnecessary </a:t>
            </a:r>
            <a:r>
              <a:rPr b="0" lang="en-US" sz="2400" spc="-1" strike="noStrike">
                <a:solidFill>
                  <a:srgbClr val="ffffff"/>
                </a:solidFill>
                <a:latin typeface="Consolas"/>
              </a:rPr>
              <a:t>struct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using the eponymous template member trick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9" name="Title 2" descr=""/>
          <p:cNvPicPr/>
          <p:nvPr/>
        </p:nvPicPr>
        <p:blipFill>
          <a:blip r:embed="rId1"/>
          <a:stretch/>
        </p:blipFill>
        <p:spPr>
          <a:xfrm>
            <a:off x="219240" y="66600"/>
            <a:ext cx="8474040" cy="85428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8BE2-CB05-49AC-973E-2FBD981A827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533520" y="1994040"/>
            <a:ext cx="7772400" cy="37515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template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factorial(</a:t>
            </a: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int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i) {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static if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(i==0) {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enum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factorial = 1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else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enum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factorial = i*factorial!(i-1)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   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olas"/>
              </a:rPr>
              <a:t>enum </a:t>
            </a:r>
            <a:r>
              <a:rPr b="0" lang="en-US" sz="2400" spc="-1" strike="noStrike">
                <a:solidFill>
                  <a:srgbClr val="010001"/>
                </a:solidFill>
                <a:latin typeface="Consolas"/>
              </a:rPr>
              <a:t>X = factorial!(5)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baxter</dc:creator>
  <dc:description/>
  <dc:language>en-US</dc:language>
  <cp:lastModifiedBy>William V. Baxter</cp:lastModifiedBy>
  <dcterms:modified xsi:type="dcterms:W3CDTF">2009-11-19T02:08:57Z</dcterms:modified>
  <cp:revision>124</cp:revision>
  <dc:subject/>
  <dc:title>Metaprogramming in D:  Real world examples</dc:title>
</cp:coreProperties>
</file>